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2DFE-8A61-418F-9EBA-09CBAA0D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D9D1-03AB-4EF5-B0FC-195377947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810E-E83A-4F95-B51F-47B5F803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34A133-492F-4761-9CA6-EC9CB9327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AE7D-A554-47E5-ACA0-C841EADC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DD5-A061-4FB4-8D7F-3456FF9D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866-34E5-4D47-BCCD-213908AA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2C6-2454-495B-8344-8B296457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tt-cn_template01_backgroun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icture 17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fastracktools.com" TargetMode="External"/><Relationship Id="rId3" Type="http://schemas.openxmlformats.org/officeDocument/2006/relationships/hyperlink" Target="mailto:ken@fasttracktools.com" TargetMode="External"/><Relationship Id="rId4" Type="http://schemas.openxmlformats.org/officeDocument/2006/relationships/hyperlink" Target="http://www.cubicleninjas.com" TargetMode="External"/><Relationship Id="rId5" Type="http://schemas.openxmlformats.org/officeDocument/2006/relationships/hyperlink" Target="mailto:hello@cubicleninjas.com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tt-cn_template01_title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030480" y="4521240"/>
            <a:ext cx="5961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evaluating options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5"/>
          <p:cNvGrpSpPr/>
          <p:nvPr/>
        </p:nvGrpSpPr>
        <p:grpSpPr>
          <a:xfrm>
            <a:off x="6445080" y="1905120"/>
            <a:ext cx="1524240" cy="914400"/>
            <a:chOff x="6445080" y="1905120"/>
            <a:chExt cx="1524240" cy="914400"/>
          </a:xfrm>
        </p:grpSpPr>
        <p:sp>
          <p:nvSpPr>
            <p:cNvPr id="144" name="Oval 66"/>
            <p:cNvSpPr/>
            <p:nvPr/>
          </p:nvSpPr>
          <p:spPr>
            <a:xfrm>
              <a:off x="6750000" y="2327400"/>
              <a:ext cx="711360" cy="4921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7"/>
            <p:cNvSpPr/>
            <p:nvPr/>
          </p:nvSpPr>
          <p:spPr>
            <a:xfrm>
              <a:off x="6445080" y="2327400"/>
              <a:ext cx="507960" cy="3506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8"/>
            <p:cNvSpPr/>
            <p:nvPr/>
          </p:nvSpPr>
          <p:spPr>
            <a:xfrm>
              <a:off x="6648120" y="1974960"/>
              <a:ext cx="609480" cy="4222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9"/>
            <p:cNvSpPr/>
            <p:nvPr/>
          </p:nvSpPr>
          <p:spPr>
            <a:xfrm>
              <a:off x="7257960" y="2185920"/>
              <a:ext cx="609480" cy="4222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0"/>
            <p:cNvSpPr/>
            <p:nvPr/>
          </p:nvSpPr>
          <p:spPr>
            <a:xfrm>
              <a:off x="7054560" y="1905120"/>
              <a:ext cx="711360" cy="4921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1"/>
            <p:cNvSpPr/>
            <p:nvPr/>
          </p:nvSpPr>
          <p:spPr>
            <a:xfrm>
              <a:off x="7562880" y="2046240"/>
              <a:ext cx="406440" cy="2808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72"/>
          <p:cNvSpPr/>
          <p:nvPr/>
        </p:nvSpPr>
        <p:spPr>
          <a:xfrm>
            <a:off x="5759280" y="2971800"/>
            <a:ext cx="1371600" cy="1981080"/>
          </a:xfrm>
          <a:prstGeom prst="rect">
            <a:avLst/>
          </a:prstGeom>
          <a:solidFill>
            <a:srgbClr val="6b8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3"/>
          <p:cNvSpPr/>
          <p:nvPr/>
        </p:nvSpPr>
        <p:spPr>
          <a:xfrm>
            <a:off x="7054920" y="4114800"/>
            <a:ext cx="685800" cy="838080"/>
          </a:xfrm>
          <a:prstGeom prst="rect">
            <a:avLst/>
          </a:prstGeom>
          <a:solidFill>
            <a:srgbClr val="6b8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4"/>
          <p:cNvSpPr/>
          <p:nvPr/>
        </p:nvSpPr>
        <p:spPr>
          <a:xfrm>
            <a:off x="7207200" y="2666880"/>
            <a:ext cx="228600" cy="1524240"/>
          </a:xfrm>
          <a:prstGeom prst="rect">
            <a:avLst/>
          </a:prstGeom>
          <a:solidFill>
            <a:srgbClr val="6b8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75"/>
          <p:cNvSpPr/>
          <p:nvPr/>
        </p:nvSpPr>
        <p:spPr>
          <a:xfrm>
            <a:off x="5911920" y="4191120"/>
            <a:ext cx="11206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5911920" y="31240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7"/>
          <p:cNvSpPr/>
          <p:nvPr/>
        </p:nvSpPr>
        <p:spPr>
          <a:xfrm>
            <a:off x="62928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8"/>
          <p:cNvSpPr/>
          <p:nvPr/>
        </p:nvSpPr>
        <p:spPr>
          <a:xfrm>
            <a:off x="667368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9"/>
          <p:cNvSpPr/>
          <p:nvPr/>
        </p:nvSpPr>
        <p:spPr>
          <a:xfrm>
            <a:off x="5911920" y="35053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6292800" y="35053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6673680" y="35053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7512120" y="2514600"/>
            <a:ext cx="228600" cy="1676520"/>
          </a:xfrm>
          <a:prstGeom prst="rect">
            <a:avLst/>
          </a:prstGeom>
          <a:solidFill>
            <a:srgbClr val="6b8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924200" y="1905120"/>
            <a:ext cx="1523880" cy="914400"/>
            <a:chOff x="1924200" y="1905120"/>
            <a:chExt cx="1523880" cy="914400"/>
          </a:xfrm>
        </p:grpSpPr>
        <p:sp>
          <p:nvSpPr>
            <p:cNvPr id="162" name="Oval 2"/>
            <p:cNvSpPr/>
            <p:nvPr/>
          </p:nvSpPr>
          <p:spPr>
            <a:xfrm>
              <a:off x="2228760" y="2327400"/>
              <a:ext cx="711000" cy="4921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60"/>
            <p:cNvSpPr/>
            <p:nvPr/>
          </p:nvSpPr>
          <p:spPr>
            <a:xfrm>
              <a:off x="1924200" y="2327400"/>
              <a:ext cx="507960" cy="3506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1"/>
            <p:cNvSpPr/>
            <p:nvPr/>
          </p:nvSpPr>
          <p:spPr>
            <a:xfrm>
              <a:off x="2127240" y="1974960"/>
              <a:ext cx="609480" cy="4222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2"/>
            <p:cNvSpPr/>
            <p:nvPr/>
          </p:nvSpPr>
          <p:spPr>
            <a:xfrm>
              <a:off x="2737080" y="2185920"/>
              <a:ext cx="609480" cy="4222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3"/>
            <p:cNvSpPr/>
            <p:nvPr/>
          </p:nvSpPr>
          <p:spPr>
            <a:xfrm>
              <a:off x="2533680" y="1905120"/>
              <a:ext cx="711000" cy="4921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4"/>
            <p:cNvSpPr/>
            <p:nvPr/>
          </p:nvSpPr>
          <p:spPr>
            <a:xfrm>
              <a:off x="3041640" y="2046240"/>
              <a:ext cx="406440" cy="2808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3"/>
          <p:cNvGrpSpPr/>
          <p:nvPr/>
        </p:nvGrpSpPr>
        <p:grpSpPr>
          <a:xfrm>
            <a:off x="334800" y="1432080"/>
            <a:ext cx="4164120" cy="336240"/>
            <a:chOff x="334800" y="1432080"/>
            <a:chExt cx="4164120" cy="336240"/>
          </a:xfrm>
        </p:grpSpPr>
        <p:pic>
          <p:nvPicPr>
            <p:cNvPr id="169" name="Rectangle 3" descr=""/>
            <p:cNvPicPr/>
            <p:nvPr/>
          </p:nvPicPr>
          <p:blipFill>
            <a:blip r:embed="rId1"/>
            <a:stretch/>
          </p:blipFill>
          <p:spPr>
            <a:xfrm>
              <a:off x="334800" y="1432080"/>
              <a:ext cx="416412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53880" y="1447920"/>
              <a:ext cx="413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46160" tIns="109800" bIns="73080" anchor="ctr">
              <a:noAutofit/>
            </a:bodyPr>
            <a:p>
              <a:pPr marL="54000" indent="-540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What it</a:t>
              </a:r>
              <a:r>
                <a:rPr b="1" lang="ja-JP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’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 NOT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4"/>
          <p:cNvSpPr/>
          <p:nvPr/>
        </p:nvSpPr>
        <p:spPr>
          <a:xfrm>
            <a:off x="4630680" y="1828800"/>
            <a:ext cx="4132440" cy="3581280"/>
          </a:xfrm>
          <a:prstGeom prst="rect">
            <a:avLst/>
          </a:prstGeom>
          <a:noFill/>
          <a:ln w="9360">
            <a:solidFill>
              <a:srgbClr val="1080b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146160" tIns="109800" bIns="73080" anchor="t">
            <a:noAutofit/>
          </a:bodyPr>
          <a:p>
            <a:pPr marL="228600" indent="-22860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53880" y="1828800"/>
            <a:ext cx="4132440" cy="3581280"/>
          </a:xfrm>
          <a:prstGeom prst="rect">
            <a:avLst/>
          </a:prstGeom>
          <a:noFill/>
          <a:ln w="9360">
            <a:solidFill>
              <a:srgbClr val="1080b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146160" tIns="109800" bIns="73080" anchor="t">
            <a:noAutofit/>
          </a:bodyPr>
          <a:p>
            <a:pPr marL="228600" indent="-22860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Verdana"/>
              </a:rPr>
              <a:t>Ideas often get mandated when involving others in the planning with drive higher execu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Rectangle 2"/>
          <p:cNvGrpSpPr/>
          <p:nvPr/>
        </p:nvGrpSpPr>
        <p:grpSpPr>
          <a:xfrm>
            <a:off x="4614840" y="1432080"/>
            <a:ext cx="4164120" cy="336240"/>
            <a:chOff x="4614840" y="1432080"/>
            <a:chExt cx="4164120" cy="336240"/>
          </a:xfrm>
        </p:grpSpPr>
        <p:pic>
          <p:nvPicPr>
            <p:cNvPr id="175" name="Rectangle 2" descr=""/>
            <p:cNvPicPr/>
            <p:nvPr/>
          </p:nvPicPr>
          <p:blipFill>
            <a:blip r:embed="rId2"/>
            <a:stretch/>
          </p:blipFill>
          <p:spPr>
            <a:xfrm>
              <a:off x="4614840" y="1432080"/>
              <a:ext cx="416412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627440" y="1447920"/>
              <a:ext cx="4133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46160" tIns="109800" bIns="73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What it I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4"/>
          <p:cNvSpPr/>
          <p:nvPr/>
        </p:nvSpPr>
        <p:spPr>
          <a:xfrm>
            <a:off x="4630680" y="5486400"/>
            <a:ext cx="4132440" cy="990720"/>
          </a:xfrm>
          <a:prstGeom prst="rect">
            <a:avLst/>
          </a:prstGeom>
          <a:noFill/>
          <a:ln w="9360">
            <a:solidFill>
              <a:srgbClr val="1080b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146160" tIns="109800" bIns="73080" anchor="ctr">
            <a:noAutofit/>
          </a:bodyPr>
          <a:p>
            <a:pPr marL="228600" indent="-228600">
              <a:lnSpc>
                <a:spcPct val="95000"/>
              </a:lnSpc>
              <a:spcAft>
                <a:spcPts val="451"/>
              </a:spcAft>
              <a:buClr>
                <a:srgbClr val="009f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451"/>
              </a:spcAft>
              <a:buClr>
                <a:srgbClr val="009f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53880" y="5486400"/>
            <a:ext cx="4132440" cy="990720"/>
          </a:xfrm>
          <a:prstGeom prst="rect">
            <a:avLst/>
          </a:prstGeom>
          <a:noFill/>
          <a:ln w="9360">
            <a:solidFill>
              <a:srgbClr val="1080b0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146160" tIns="109800" bIns="73080" anchor="ctr">
            <a:noAutofit/>
          </a:bodyPr>
          <a:p>
            <a:pPr marL="228600" indent="-228600">
              <a:lnSpc>
                <a:spcPct val="95000"/>
              </a:lnSpc>
              <a:spcAft>
                <a:spcPts val="451"/>
              </a:spcAft>
              <a:buClr>
                <a:srgbClr val="009f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451"/>
              </a:spcAft>
              <a:buClr>
                <a:srgbClr val="009f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38400" y="2971800"/>
            <a:ext cx="1371600" cy="1981080"/>
          </a:xfrm>
          <a:prstGeom prst="rect">
            <a:avLst/>
          </a:prstGeom>
          <a:solidFill>
            <a:srgbClr val="db4b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d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2533680" y="4114800"/>
            <a:ext cx="685800" cy="838080"/>
          </a:xfrm>
          <a:prstGeom prst="rect">
            <a:avLst/>
          </a:prstGeom>
          <a:solidFill>
            <a:srgbClr val="db4b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2685960" y="2666880"/>
            <a:ext cx="228600" cy="1524240"/>
          </a:xfrm>
          <a:prstGeom prst="rect">
            <a:avLst/>
          </a:prstGeom>
          <a:solidFill>
            <a:srgbClr val="db4b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31"/>
          <p:cNvSpPr/>
          <p:nvPr/>
        </p:nvSpPr>
        <p:spPr>
          <a:xfrm>
            <a:off x="1390680" y="4343400"/>
            <a:ext cx="11206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1"/>
          <p:cNvSpPr/>
          <p:nvPr/>
        </p:nvSpPr>
        <p:spPr>
          <a:xfrm>
            <a:off x="3448080" y="27432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ed from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2"/>
          <p:cNvSpPr/>
          <p:nvPr/>
        </p:nvSpPr>
        <p:spPr>
          <a:xfrm>
            <a:off x="7715160" y="28591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39068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177156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2152800" y="31240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1390680" y="35053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1771560" y="35053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2152800" y="35053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9"/>
          <p:cNvSpPr/>
          <p:nvPr/>
        </p:nvSpPr>
        <p:spPr>
          <a:xfrm>
            <a:off x="2990880" y="2514600"/>
            <a:ext cx="228600" cy="1676520"/>
          </a:xfrm>
          <a:prstGeom prst="rect">
            <a:avLst/>
          </a:prstGeom>
          <a:solidFill>
            <a:srgbClr val="db4b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886360" y="4191120"/>
            <a:ext cx="457200" cy="1131840"/>
            <a:chOff x="5886360" y="4191120"/>
            <a:chExt cx="457200" cy="1131840"/>
          </a:xfrm>
        </p:grpSpPr>
        <p:sp>
          <p:nvSpPr>
            <p:cNvPr id="193" name="Oval 20"/>
            <p:cNvSpPr/>
            <p:nvPr/>
          </p:nvSpPr>
          <p:spPr>
            <a:xfrm>
              <a:off x="6000480" y="4191120"/>
              <a:ext cx="228600" cy="22860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1"/>
            <p:cNvSpPr/>
            <p:nvPr/>
          </p:nvSpPr>
          <p:spPr>
            <a:xfrm>
              <a:off x="5978160" y="4518000"/>
              <a:ext cx="279360" cy="4572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ound Diagonal Corner Rectangle 84"/>
            <p:cNvSpPr/>
            <p:nvPr/>
          </p:nvSpPr>
          <p:spPr>
            <a:xfrm>
              <a:off x="5886360" y="4441680"/>
              <a:ext cx="75960" cy="457200"/>
            </a:xfrm>
            <a:custGeom>
              <a:avLst/>
              <a:gdLst/>
              <a:ahLst/>
              <a:rect l="l" t="t" r="r" b="b"/>
              <a:pathLst>
                <a:path w="76200" h="457336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636"/>
                  </a:lnTo>
                  <a:cubicBezTo>
                    <a:pt x="76200" y="451650"/>
                    <a:pt x="70514" y="457336"/>
                    <a:pt x="63500" y="457336"/>
                  </a:cubicBezTo>
                  <a:lnTo>
                    <a:pt x="0" y="457336"/>
                  </a:lnTo>
                  <a:lnTo>
                    <a:pt x="0" y="457336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ound Diagonal Corner Rectangle 85"/>
            <p:cNvSpPr/>
            <p:nvPr/>
          </p:nvSpPr>
          <p:spPr>
            <a:xfrm>
              <a:off x="6267600" y="4441680"/>
              <a:ext cx="75960" cy="457200"/>
            </a:xfrm>
            <a:custGeom>
              <a:avLst/>
              <a:gdLst/>
              <a:ahLst/>
              <a:rect l="l" t="t" r="r" b="b"/>
              <a:pathLst>
                <a:path w="76200" h="457336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636"/>
                  </a:lnTo>
                  <a:cubicBezTo>
                    <a:pt x="76200" y="451650"/>
                    <a:pt x="70514" y="457336"/>
                    <a:pt x="63500" y="457336"/>
                  </a:cubicBezTo>
                  <a:lnTo>
                    <a:pt x="0" y="457336"/>
                  </a:lnTo>
                  <a:lnTo>
                    <a:pt x="0" y="457336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ound Diagonal Corner Rectangle 86"/>
            <p:cNvSpPr/>
            <p:nvPr/>
          </p:nvSpPr>
          <p:spPr>
            <a:xfrm>
              <a:off x="5886360" y="4441680"/>
              <a:ext cx="424080" cy="152280"/>
            </a:xfrm>
            <a:custGeom>
              <a:avLst/>
              <a:gdLst/>
              <a:ahLst/>
              <a:rect l="l" t="t" r="r" b="b"/>
              <a:pathLst>
                <a:path w="423863" h="152445">
                  <a:moveTo>
                    <a:pt x="25408" y="0"/>
                  </a:moveTo>
                  <a:lnTo>
                    <a:pt x="423863" y="0"/>
                  </a:lnTo>
                  <a:lnTo>
                    <a:pt x="423863" y="0"/>
                  </a:lnTo>
                  <a:lnTo>
                    <a:pt x="423863" y="127037"/>
                  </a:lnTo>
                  <a:cubicBezTo>
                    <a:pt x="423863" y="141069"/>
                    <a:pt x="412487" y="152445"/>
                    <a:pt x="398455" y="152445"/>
                  </a:cubicBezTo>
                  <a:lnTo>
                    <a:pt x="0" y="152445"/>
                  </a:lnTo>
                  <a:lnTo>
                    <a:pt x="0" y="152445"/>
                  </a:lnTo>
                  <a:lnTo>
                    <a:pt x="0" y="25408"/>
                  </a:lnTo>
                  <a:cubicBezTo>
                    <a:pt x="0" y="11376"/>
                    <a:pt x="11376" y="0"/>
                    <a:pt x="25408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ound Diagonal Corner Rectangle 87"/>
            <p:cNvSpPr/>
            <p:nvPr/>
          </p:nvSpPr>
          <p:spPr>
            <a:xfrm>
              <a:off x="5978160" y="4942080"/>
              <a:ext cx="101520" cy="380880"/>
            </a:xfrm>
            <a:custGeom>
              <a:avLst/>
              <a:gdLst/>
              <a:ahLst/>
              <a:rect l="l" t="t" r="r" b="b"/>
              <a:pathLst>
                <a:path w="101600" h="381113">
                  <a:moveTo>
                    <a:pt x="16934" y="0"/>
                  </a:moveTo>
                  <a:lnTo>
                    <a:pt x="101600" y="0"/>
                  </a:lnTo>
                  <a:lnTo>
                    <a:pt x="101600" y="0"/>
                  </a:lnTo>
                  <a:lnTo>
                    <a:pt x="101600" y="364179"/>
                  </a:lnTo>
                  <a:cubicBezTo>
                    <a:pt x="101600" y="373531"/>
                    <a:pt x="94018" y="381113"/>
                    <a:pt x="84666" y="381113"/>
                  </a:cubicBezTo>
                  <a:lnTo>
                    <a:pt x="0" y="381113"/>
                  </a:lnTo>
                  <a:lnTo>
                    <a:pt x="0" y="381113"/>
                  </a:lnTo>
                  <a:lnTo>
                    <a:pt x="0" y="16934"/>
                  </a:lnTo>
                  <a:cubicBezTo>
                    <a:pt x="0" y="7582"/>
                    <a:pt x="7582" y="0"/>
                    <a:pt x="1693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 Diagonal Corner Rectangle 89"/>
            <p:cNvSpPr/>
            <p:nvPr/>
          </p:nvSpPr>
          <p:spPr>
            <a:xfrm>
              <a:off x="6156360" y="4942080"/>
              <a:ext cx="100080" cy="380880"/>
            </a:xfrm>
            <a:custGeom>
              <a:avLst/>
              <a:gdLst/>
              <a:ahLst/>
              <a:rect l="l" t="t" r="r" b="b"/>
              <a:pathLst>
                <a:path w="100013" h="381113">
                  <a:moveTo>
                    <a:pt x="16669" y="0"/>
                  </a:moveTo>
                  <a:lnTo>
                    <a:pt x="100013" y="0"/>
                  </a:lnTo>
                  <a:lnTo>
                    <a:pt x="100013" y="0"/>
                  </a:lnTo>
                  <a:lnTo>
                    <a:pt x="100013" y="364444"/>
                  </a:lnTo>
                  <a:cubicBezTo>
                    <a:pt x="100013" y="373650"/>
                    <a:pt x="92550" y="381113"/>
                    <a:pt x="83344" y="381113"/>
                  </a:cubicBezTo>
                  <a:lnTo>
                    <a:pt x="0" y="381113"/>
                  </a:lnTo>
                  <a:lnTo>
                    <a:pt x="0" y="381113"/>
                  </a:lnTo>
                  <a:lnTo>
                    <a:pt x="0" y="16669"/>
                  </a:lnTo>
                  <a:cubicBezTo>
                    <a:pt x="0" y="7463"/>
                    <a:pt x="7463" y="0"/>
                    <a:pt x="16669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2"/>
          <p:cNvGrpSpPr/>
          <p:nvPr/>
        </p:nvGrpSpPr>
        <p:grpSpPr>
          <a:xfrm>
            <a:off x="3295800" y="3962520"/>
            <a:ext cx="338040" cy="838080"/>
            <a:chOff x="3295800" y="3962520"/>
            <a:chExt cx="338040" cy="838080"/>
          </a:xfrm>
        </p:grpSpPr>
        <p:sp>
          <p:nvSpPr>
            <p:cNvPr id="201" name="Oval 93"/>
            <p:cNvSpPr/>
            <p:nvPr/>
          </p:nvSpPr>
          <p:spPr>
            <a:xfrm>
              <a:off x="3379680" y="3962520"/>
              <a:ext cx="169920" cy="16956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3363840" y="4205160"/>
              <a:ext cx="206280" cy="33804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ound Diagonal Corner Rectangle 95"/>
            <p:cNvSpPr/>
            <p:nvPr/>
          </p:nvSpPr>
          <p:spPr>
            <a:xfrm>
              <a:off x="3295800" y="4148280"/>
              <a:ext cx="56880" cy="338040"/>
            </a:xfrm>
            <a:custGeom>
              <a:avLst/>
              <a:gdLst/>
              <a:ahLst/>
              <a:rect l="l" t="t" r="r" b="b"/>
              <a:pathLst>
                <a:path w="77273" h="456749">
                  <a:moveTo>
                    <a:pt x="12879" y="0"/>
                  </a:moveTo>
                  <a:lnTo>
                    <a:pt x="77273" y="0"/>
                  </a:lnTo>
                  <a:lnTo>
                    <a:pt x="77273" y="0"/>
                  </a:lnTo>
                  <a:lnTo>
                    <a:pt x="77273" y="443870"/>
                  </a:lnTo>
                  <a:cubicBezTo>
                    <a:pt x="77273" y="450983"/>
                    <a:pt x="71507" y="456749"/>
                    <a:pt x="64394" y="456749"/>
                  </a:cubicBezTo>
                  <a:lnTo>
                    <a:pt x="0" y="456749"/>
                  </a:lnTo>
                  <a:lnTo>
                    <a:pt x="0" y="456749"/>
                  </a:lnTo>
                  <a:lnTo>
                    <a:pt x="0" y="12879"/>
                  </a:lnTo>
                  <a:cubicBezTo>
                    <a:pt x="0" y="5766"/>
                    <a:pt x="5766" y="0"/>
                    <a:pt x="12879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ound Diagonal Corner Rectangle 96"/>
            <p:cNvSpPr/>
            <p:nvPr/>
          </p:nvSpPr>
          <p:spPr>
            <a:xfrm>
              <a:off x="3578400" y="4148280"/>
              <a:ext cx="55440" cy="338040"/>
            </a:xfrm>
            <a:custGeom>
              <a:avLst/>
              <a:gdLst/>
              <a:ahLst/>
              <a:rect l="l" t="t" r="r" b="b"/>
              <a:pathLst>
                <a:path w="75127" h="456749">
                  <a:moveTo>
                    <a:pt x="12521" y="0"/>
                  </a:moveTo>
                  <a:lnTo>
                    <a:pt x="75127" y="0"/>
                  </a:lnTo>
                  <a:lnTo>
                    <a:pt x="75127" y="0"/>
                  </a:lnTo>
                  <a:lnTo>
                    <a:pt x="75127" y="444228"/>
                  </a:lnTo>
                  <a:cubicBezTo>
                    <a:pt x="75127" y="451143"/>
                    <a:pt x="69521" y="456749"/>
                    <a:pt x="62606" y="456749"/>
                  </a:cubicBezTo>
                  <a:lnTo>
                    <a:pt x="0" y="456749"/>
                  </a:lnTo>
                  <a:lnTo>
                    <a:pt x="0" y="456749"/>
                  </a:lnTo>
                  <a:lnTo>
                    <a:pt x="0" y="12521"/>
                  </a:lnTo>
                  <a:cubicBezTo>
                    <a:pt x="0" y="5606"/>
                    <a:pt x="5606" y="0"/>
                    <a:pt x="12521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 Diagonal Corner Rectangle 97"/>
            <p:cNvSpPr/>
            <p:nvPr/>
          </p:nvSpPr>
          <p:spPr>
            <a:xfrm>
              <a:off x="3295800" y="4148280"/>
              <a:ext cx="312840" cy="112680"/>
            </a:xfrm>
            <a:custGeom>
              <a:avLst/>
              <a:gdLst/>
              <a:ahLst/>
              <a:rect l="l" t="t" r="r" b="b"/>
              <a:pathLst>
                <a:path w="422856" h="152249">
                  <a:moveTo>
                    <a:pt x="25375" y="0"/>
                  </a:moveTo>
                  <a:lnTo>
                    <a:pt x="422856" y="0"/>
                  </a:lnTo>
                  <a:lnTo>
                    <a:pt x="422856" y="0"/>
                  </a:lnTo>
                  <a:lnTo>
                    <a:pt x="422856" y="126874"/>
                  </a:lnTo>
                  <a:cubicBezTo>
                    <a:pt x="422856" y="140888"/>
                    <a:pt x="411495" y="152249"/>
                    <a:pt x="397481" y="152249"/>
                  </a:cubicBezTo>
                  <a:lnTo>
                    <a:pt x="0" y="152249"/>
                  </a:lnTo>
                  <a:lnTo>
                    <a:pt x="0" y="152249"/>
                  </a:lnTo>
                  <a:lnTo>
                    <a:pt x="0" y="25375"/>
                  </a:lnTo>
                  <a:cubicBezTo>
                    <a:pt x="0" y="11361"/>
                    <a:pt x="11361" y="0"/>
                    <a:pt x="25375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ound Diagonal Corner Rectangle 98"/>
            <p:cNvSpPr/>
            <p:nvPr/>
          </p:nvSpPr>
          <p:spPr>
            <a:xfrm>
              <a:off x="3363840" y="4518000"/>
              <a:ext cx="74520" cy="282600"/>
            </a:xfrm>
            <a:custGeom>
              <a:avLst/>
              <a:gdLst/>
              <a:ahLst/>
              <a:rect l="l" t="t" r="r" b="b"/>
              <a:pathLst>
                <a:path w="100884" h="381697">
                  <a:moveTo>
                    <a:pt x="16814" y="0"/>
                  </a:moveTo>
                  <a:lnTo>
                    <a:pt x="100884" y="0"/>
                  </a:lnTo>
                  <a:lnTo>
                    <a:pt x="100884" y="0"/>
                  </a:lnTo>
                  <a:lnTo>
                    <a:pt x="100884" y="364883"/>
                  </a:lnTo>
                  <a:cubicBezTo>
                    <a:pt x="100884" y="374169"/>
                    <a:pt x="93356" y="381697"/>
                    <a:pt x="84070" y="381697"/>
                  </a:cubicBezTo>
                  <a:lnTo>
                    <a:pt x="0" y="381697"/>
                  </a:lnTo>
                  <a:lnTo>
                    <a:pt x="0" y="381697"/>
                  </a:lnTo>
                  <a:lnTo>
                    <a:pt x="0" y="16814"/>
                  </a:lnTo>
                  <a:cubicBezTo>
                    <a:pt x="0" y="7528"/>
                    <a:pt x="7528" y="0"/>
                    <a:pt x="1681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ound Diagonal Corner Rectangle 99"/>
            <p:cNvSpPr/>
            <p:nvPr/>
          </p:nvSpPr>
          <p:spPr>
            <a:xfrm>
              <a:off x="3495960" y="4518000"/>
              <a:ext cx="73080" cy="282600"/>
            </a:xfrm>
            <a:custGeom>
              <a:avLst/>
              <a:gdLst/>
              <a:ahLst/>
              <a:rect l="l" t="t" r="r" b="b"/>
              <a:pathLst>
                <a:path w="98738" h="381697">
                  <a:moveTo>
                    <a:pt x="16457" y="0"/>
                  </a:moveTo>
                  <a:lnTo>
                    <a:pt x="98738" y="0"/>
                  </a:lnTo>
                  <a:lnTo>
                    <a:pt x="98738" y="0"/>
                  </a:lnTo>
                  <a:lnTo>
                    <a:pt x="98738" y="365240"/>
                  </a:lnTo>
                  <a:cubicBezTo>
                    <a:pt x="98738" y="374329"/>
                    <a:pt x="91370" y="381697"/>
                    <a:pt x="82281" y="381697"/>
                  </a:cubicBezTo>
                  <a:lnTo>
                    <a:pt x="0" y="381697"/>
                  </a:lnTo>
                  <a:lnTo>
                    <a:pt x="0" y="381697"/>
                  </a:lnTo>
                  <a:lnTo>
                    <a:pt x="0" y="16457"/>
                  </a:lnTo>
                  <a:cubicBezTo>
                    <a:pt x="0" y="7368"/>
                    <a:pt x="7368" y="0"/>
                    <a:pt x="16457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00"/>
          <p:cNvGrpSpPr/>
          <p:nvPr/>
        </p:nvGrpSpPr>
        <p:grpSpPr>
          <a:xfrm>
            <a:off x="3676680" y="3809880"/>
            <a:ext cx="276120" cy="685800"/>
            <a:chOff x="3676680" y="3809880"/>
            <a:chExt cx="276120" cy="685800"/>
          </a:xfrm>
        </p:grpSpPr>
        <p:sp>
          <p:nvSpPr>
            <p:cNvPr id="209" name="Oval 101"/>
            <p:cNvSpPr/>
            <p:nvPr/>
          </p:nvSpPr>
          <p:spPr>
            <a:xfrm>
              <a:off x="3746520" y="3809880"/>
              <a:ext cx="138240" cy="13788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3732120" y="4008240"/>
              <a:ext cx="168120" cy="2761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ound Diagonal Corner Rectangle 103"/>
            <p:cNvSpPr/>
            <p:nvPr/>
          </p:nvSpPr>
          <p:spPr>
            <a:xfrm>
              <a:off x="3676680" y="3962160"/>
              <a:ext cx="46080" cy="276120"/>
            </a:xfrm>
            <a:custGeom>
              <a:avLst/>
              <a:gdLst/>
              <a:ahLst/>
              <a:rect l="l" t="t" r="r" b="b"/>
              <a:pathLst>
                <a:path w="76201" h="456035">
                  <a:moveTo>
                    <a:pt x="12700" y="0"/>
                  </a:moveTo>
                  <a:lnTo>
                    <a:pt x="76201" y="0"/>
                  </a:lnTo>
                  <a:lnTo>
                    <a:pt x="76201" y="0"/>
                  </a:lnTo>
                  <a:lnTo>
                    <a:pt x="76201" y="443335"/>
                  </a:lnTo>
                  <a:cubicBezTo>
                    <a:pt x="76201" y="450349"/>
                    <a:pt x="70515" y="456035"/>
                    <a:pt x="63501" y="456035"/>
                  </a:cubicBezTo>
                  <a:lnTo>
                    <a:pt x="0" y="456035"/>
                  </a:lnTo>
                  <a:lnTo>
                    <a:pt x="0" y="456035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 Diagonal Corner Rectangle 104"/>
            <p:cNvSpPr/>
            <p:nvPr/>
          </p:nvSpPr>
          <p:spPr>
            <a:xfrm>
              <a:off x="3907080" y="3962160"/>
              <a:ext cx="45720" cy="276120"/>
            </a:xfrm>
            <a:custGeom>
              <a:avLst/>
              <a:gdLst/>
              <a:ahLst/>
              <a:rect l="l" t="t" r="r" b="b"/>
              <a:pathLst>
                <a:path w="76199" h="456035">
                  <a:moveTo>
                    <a:pt x="12700" y="0"/>
                  </a:moveTo>
                  <a:lnTo>
                    <a:pt x="76199" y="0"/>
                  </a:lnTo>
                  <a:lnTo>
                    <a:pt x="76199" y="0"/>
                  </a:lnTo>
                  <a:lnTo>
                    <a:pt x="76199" y="443335"/>
                  </a:lnTo>
                  <a:cubicBezTo>
                    <a:pt x="76199" y="450349"/>
                    <a:pt x="70513" y="456035"/>
                    <a:pt x="63499" y="456035"/>
                  </a:cubicBezTo>
                  <a:lnTo>
                    <a:pt x="0" y="456035"/>
                  </a:lnTo>
                  <a:lnTo>
                    <a:pt x="0" y="456035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ound Diagonal Corner Rectangle 105"/>
            <p:cNvSpPr/>
            <p:nvPr/>
          </p:nvSpPr>
          <p:spPr>
            <a:xfrm>
              <a:off x="3676680" y="3962160"/>
              <a:ext cx="255600" cy="91800"/>
            </a:xfrm>
            <a:custGeom>
              <a:avLst/>
              <a:gdLst/>
              <a:ahLst/>
              <a:rect l="l" t="t" r="r" b="b"/>
              <a:pathLst>
                <a:path w="423042" h="152012">
                  <a:moveTo>
                    <a:pt x="25336" y="0"/>
                  </a:moveTo>
                  <a:lnTo>
                    <a:pt x="423042" y="0"/>
                  </a:lnTo>
                  <a:lnTo>
                    <a:pt x="423042" y="0"/>
                  </a:lnTo>
                  <a:lnTo>
                    <a:pt x="423042" y="126676"/>
                  </a:lnTo>
                  <a:cubicBezTo>
                    <a:pt x="423042" y="140669"/>
                    <a:pt x="411699" y="152012"/>
                    <a:pt x="397706" y="152012"/>
                  </a:cubicBezTo>
                  <a:lnTo>
                    <a:pt x="0" y="152012"/>
                  </a:lnTo>
                  <a:lnTo>
                    <a:pt x="0" y="152012"/>
                  </a:lnTo>
                  <a:lnTo>
                    <a:pt x="0" y="25336"/>
                  </a:lnTo>
                  <a:cubicBezTo>
                    <a:pt x="0" y="11343"/>
                    <a:pt x="11343" y="0"/>
                    <a:pt x="25336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 Diagonal Corner Rectangle 106"/>
            <p:cNvSpPr/>
            <p:nvPr/>
          </p:nvSpPr>
          <p:spPr>
            <a:xfrm>
              <a:off x="3732120" y="4265640"/>
              <a:ext cx="61920" cy="230040"/>
            </a:xfrm>
            <a:custGeom>
              <a:avLst/>
              <a:gdLst/>
              <a:ahLst/>
              <a:rect l="l" t="t" r="r" b="b"/>
              <a:pathLst>
                <a:path w="102475" h="380028">
                  <a:moveTo>
                    <a:pt x="17080" y="0"/>
                  </a:moveTo>
                  <a:lnTo>
                    <a:pt x="102475" y="0"/>
                  </a:lnTo>
                  <a:lnTo>
                    <a:pt x="102475" y="0"/>
                  </a:lnTo>
                  <a:lnTo>
                    <a:pt x="102475" y="362948"/>
                  </a:lnTo>
                  <a:cubicBezTo>
                    <a:pt x="102475" y="372381"/>
                    <a:pt x="94828" y="380028"/>
                    <a:pt x="85395" y="380028"/>
                  </a:cubicBezTo>
                  <a:lnTo>
                    <a:pt x="0" y="380028"/>
                  </a:lnTo>
                  <a:lnTo>
                    <a:pt x="0" y="380028"/>
                  </a:lnTo>
                  <a:lnTo>
                    <a:pt x="0" y="17080"/>
                  </a:lnTo>
                  <a:cubicBezTo>
                    <a:pt x="0" y="7647"/>
                    <a:pt x="7647" y="0"/>
                    <a:pt x="1708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 Diagonal Corner Rectangle 107"/>
            <p:cNvSpPr/>
            <p:nvPr/>
          </p:nvSpPr>
          <p:spPr>
            <a:xfrm>
              <a:off x="3840120" y="4265640"/>
              <a:ext cx="60120" cy="230040"/>
            </a:xfrm>
            <a:custGeom>
              <a:avLst/>
              <a:gdLst/>
              <a:ahLst/>
              <a:rect l="l" t="t" r="r" b="b"/>
              <a:pathLst>
                <a:path w="99848" h="380028">
                  <a:moveTo>
                    <a:pt x="16642" y="0"/>
                  </a:moveTo>
                  <a:lnTo>
                    <a:pt x="99848" y="0"/>
                  </a:lnTo>
                  <a:lnTo>
                    <a:pt x="99848" y="0"/>
                  </a:lnTo>
                  <a:lnTo>
                    <a:pt x="99848" y="363386"/>
                  </a:lnTo>
                  <a:cubicBezTo>
                    <a:pt x="99848" y="372577"/>
                    <a:pt x="92397" y="380028"/>
                    <a:pt x="83206" y="380028"/>
                  </a:cubicBezTo>
                  <a:lnTo>
                    <a:pt x="0" y="380028"/>
                  </a:lnTo>
                  <a:lnTo>
                    <a:pt x="0" y="380028"/>
                  </a:lnTo>
                  <a:lnTo>
                    <a:pt x="0" y="16642"/>
                  </a:lnTo>
                  <a:cubicBezTo>
                    <a:pt x="0" y="7451"/>
                    <a:pt x="7451" y="0"/>
                    <a:pt x="16642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08"/>
          <p:cNvGrpSpPr/>
          <p:nvPr/>
        </p:nvGrpSpPr>
        <p:grpSpPr>
          <a:xfrm>
            <a:off x="3981600" y="4038480"/>
            <a:ext cx="399960" cy="990720"/>
            <a:chOff x="3981600" y="4038480"/>
            <a:chExt cx="399960" cy="990720"/>
          </a:xfrm>
        </p:grpSpPr>
        <p:sp>
          <p:nvSpPr>
            <p:cNvPr id="217" name="Oval 109"/>
            <p:cNvSpPr/>
            <p:nvPr/>
          </p:nvSpPr>
          <p:spPr>
            <a:xfrm>
              <a:off x="4081680" y="4038480"/>
              <a:ext cx="199800" cy="19980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060800" y="4324320"/>
              <a:ext cx="245880" cy="39996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ound Diagonal Corner Rectangle 111"/>
            <p:cNvSpPr/>
            <p:nvPr/>
          </p:nvSpPr>
          <p:spPr>
            <a:xfrm>
              <a:off x="3981600" y="4257360"/>
              <a:ext cx="66600" cy="399960"/>
            </a:xfrm>
            <a:custGeom>
              <a:avLst/>
              <a:gdLst/>
              <a:ahLst/>
              <a:rect l="l" t="t" r="r" b="b"/>
              <a:pathLst>
                <a:path w="76200" h="457244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544"/>
                  </a:lnTo>
                  <a:cubicBezTo>
                    <a:pt x="76200" y="451558"/>
                    <a:pt x="70514" y="457244"/>
                    <a:pt x="63500" y="457244"/>
                  </a:cubicBezTo>
                  <a:lnTo>
                    <a:pt x="0" y="457244"/>
                  </a:lnTo>
                  <a:lnTo>
                    <a:pt x="0" y="457244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ound Diagonal Corner Rectangle 112"/>
            <p:cNvSpPr/>
            <p:nvPr/>
          </p:nvSpPr>
          <p:spPr>
            <a:xfrm>
              <a:off x="4314960" y="4257360"/>
              <a:ext cx="66600" cy="399960"/>
            </a:xfrm>
            <a:custGeom>
              <a:avLst/>
              <a:gdLst/>
              <a:ahLst/>
              <a:rect l="l" t="t" r="r" b="b"/>
              <a:pathLst>
                <a:path w="76200" h="457244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544"/>
                  </a:lnTo>
                  <a:cubicBezTo>
                    <a:pt x="76200" y="451558"/>
                    <a:pt x="70514" y="457244"/>
                    <a:pt x="63500" y="457244"/>
                  </a:cubicBezTo>
                  <a:lnTo>
                    <a:pt x="0" y="457244"/>
                  </a:lnTo>
                  <a:lnTo>
                    <a:pt x="0" y="457244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ound Diagonal Corner Rectangle 113"/>
            <p:cNvSpPr/>
            <p:nvPr/>
          </p:nvSpPr>
          <p:spPr>
            <a:xfrm>
              <a:off x="3981600" y="4257360"/>
              <a:ext cx="370080" cy="133200"/>
            </a:xfrm>
            <a:custGeom>
              <a:avLst/>
              <a:gdLst/>
              <a:ahLst/>
              <a:rect l="l" t="t" r="r" b="b"/>
              <a:pathLst>
                <a:path w="422729" h="152415">
                  <a:moveTo>
                    <a:pt x="25403" y="0"/>
                  </a:moveTo>
                  <a:lnTo>
                    <a:pt x="422729" y="0"/>
                  </a:lnTo>
                  <a:lnTo>
                    <a:pt x="422729" y="0"/>
                  </a:lnTo>
                  <a:lnTo>
                    <a:pt x="422729" y="127012"/>
                  </a:lnTo>
                  <a:cubicBezTo>
                    <a:pt x="422729" y="141042"/>
                    <a:pt x="411356" y="152415"/>
                    <a:pt x="397326" y="152415"/>
                  </a:cubicBezTo>
                  <a:lnTo>
                    <a:pt x="0" y="152415"/>
                  </a:lnTo>
                  <a:lnTo>
                    <a:pt x="0" y="152415"/>
                  </a:lnTo>
                  <a:lnTo>
                    <a:pt x="0" y="25403"/>
                  </a:lnTo>
                  <a:cubicBezTo>
                    <a:pt x="0" y="11373"/>
                    <a:pt x="11373" y="0"/>
                    <a:pt x="25403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ound Diagonal Corner Rectangle 114"/>
            <p:cNvSpPr/>
            <p:nvPr/>
          </p:nvSpPr>
          <p:spPr>
            <a:xfrm>
              <a:off x="4062600" y="4695840"/>
              <a:ext cx="87120" cy="333360"/>
            </a:xfrm>
            <a:custGeom>
              <a:avLst/>
              <a:gdLst/>
              <a:ahLst/>
              <a:rect l="l" t="t" r="r" b="b"/>
              <a:pathLst>
                <a:path w="99785" h="381037">
                  <a:moveTo>
                    <a:pt x="16631" y="0"/>
                  </a:moveTo>
                  <a:lnTo>
                    <a:pt x="99785" y="0"/>
                  </a:lnTo>
                  <a:lnTo>
                    <a:pt x="99785" y="0"/>
                  </a:lnTo>
                  <a:lnTo>
                    <a:pt x="99785" y="364406"/>
                  </a:lnTo>
                  <a:cubicBezTo>
                    <a:pt x="99785" y="373591"/>
                    <a:pt x="92339" y="381037"/>
                    <a:pt x="83154" y="381037"/>
                  </a:cubicBezTo>
                  <a:lnTo>
                    <a:pt x="0" y="381037"/>
                  </a:lnTo>
                  <a:lnTo>
                    <a:pt x="0" y="381037"/>
                  </a:lnTo>
                  <a:lnTo>
                    <a:pt x="0" y="16631"/>
                  </a:lnTo>
                  <a:cubicBezTo>
                    <a:pt x="0" y="7446"/>
                    <a:pt x="7446" y="0"/>
                    <a:pt x="16631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ound Diagonal Corner Rectangle 115"/>
            <p:cNvSpPr/>
            <p:nvPr/>
          </p:nvSpPr>
          <p:spPr>
            <a:xfrm>
              <a:off x="4216680" y="4695840"/>
              <a:ext cx="88920" cy="333360"/>
            </a:xfrm>
            <a:custGeom>
              <a:avLst/>
              <a:gdLst/>
              <a:ahLst/>
              <a:rect l="l" t="t" r="r" b="b"/>
              <a:pathLst>
                <a:path w="101600" h="381037">
                  <a:moveTo>
                    <a:pt x="16934" y="0"/>
                  </a:moveTo>
                  <a:lnTo>
                    <a:pt x="101600" y="0"/>
                  </a:lnTo>
                  <a:lnTo>
                    <a:pt x="101600" y="0"/>
                  </a:lnTo>
                  <a:lnTo>
                    <a:pt x="101600" y="364103"/>
                  </a:lnTo>
                  <a:cubicBezTo>
                    <a:pt x="101600" y="373455"/>
                    <a:pt x="94018" y="381037"/>
                    <a:pt x="84666" y="381037"/>
                  </a:cubicBezTo>
                  <a:lnTo>
                    <a:pt x="0" y="381037"/>
                  </a:lnTo>
                  <a:lnTo>
                    <a:pt x="0" y="381037"/>
                  </a:lnTo>
                  <a:lnTo>
                    <a:pt x="0" y="16934"/>
                  </a:lnTo>
                  <a:cubicBezTo>
                    <a:pt x="0" y="7582"/>
                    <a:pt x="7582" y="0"/>
                    <a:pt x="1693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24"/>
          <p:cNvGrpSpPr/>
          <p:nvPr/>
        </p:nvGrpSpPr>
        <p:grpSpPr>
          <a:xfrm>
            <a:off x="4743360" y="3962520"/>
            <a:ext cx="338400" cy="838080"/>
            <a:chOff x="4743360" y="3962520"/>
            <a:chExt cx="338400" cy="838080"/>
          </a:xfrm>
        </p:grpSpPr>
        <p:sp>
          <p:nvSpPr>
            <p:cNvPr id="225" name="Oval 125"/>
            <p:cNvSpPr/>
            <p:nvPr/>
          </p:nvSpPr>
          <p:spPr>
            <a:xfrm>
              <a:off x="4827600" y="3962520"/>
              <a:ext cx="169920" cy="16956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26"/>
            <p:cNvSpPr/>
            <p:nvPr/>
          </p:nvSpPr>
          <p:spPr>
            <a:xfrm>
              <a:off x="4811400" y="4205160"/>
              <a:ext cx="206640" cy="33804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ound Diagonal Corner Rectangle 127"/>
            <p:cNvSpPr/>
            <p:nvPr/>
          </p:nvSpPr>
          <p:spPr>
            <a:xfrm>
              <a:off x="4743360" y="4148280"/>
              <a:ext cx="57240" cy="338040"/>
            </a:xfrm>
            <a:custGeom>
              <a:avLst/>
              <a:gdLst/>
              <a:ahLst/>
              <a:rect l="l" t="t" r="r" b="b"/>
              <a:pathLst>
                <a:path w="77273" h="456749">
                  <a:moveTo>
                    <a:pt x="12879" y="0"/>
                  </a:moveTo>
                  <a:lnTo>
                    <a:pt x="77273" y="0"/>
                  </a:lnTo>
                  <a:lnTo>
                    <a:pt x="77273" y="0"/>
                  </a:lnTo>
                  <a:lnTo>
                    <a:pt x="77273" y="443870"/>
                  </a:lnTo>
                  <a:cubicBezTo>
                    <a:pt x="77273" y="450983"/>
                    <a:pt x="71507" y="456749"/>
                    <a:pt x="64394" y="456749"/>
                  </a:cubicBezTo>
                  <a:lnTo>
                    <a:pt x="0" y="456749"/>
                  </a:lnTo>
                  <a:lnTo>
                    <a:pt x="0" y="456749"/>
                  </a:lnTo>
                  <a:lnTo>
                    <a:pt x="0" y="12879"/>
                  </a:lnTo>
                  <a:cubicBezTo>
                    <a:pt x="0" y="5766"/>
                    <a:pt x="5766" y="0"/>
                    <a:pt x="12879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ound Diagonal Corner Rectangle 128"/>
            <p:cNvSpPr/>
            <p:nvPr/>
          </p:nvSpPr>
          <p:spPr>
            <a:xfrm>
              <a:off x="5026320" y="4148280"/>
              <a:ext cx="55440" cy="338040"/>
            </a:xfrm>
            <a:custGeom>
              <a:avLst/>
              <a:gdLst/>
              <a:ahLst/>
              <a:rect l="l" t="t" r="r" b="b"/>
              <a:pathLst>
                <a:path w="75127" h="456749">
                  <a:moveTo>
                    <a:pt x="12521" y="0"/>
                  </a:moveTo>
                  <a:lnTo>
                    <a:pt x="75127" y="0"/>
                  </a:lnTo>
                  <a:lnTo>
                    <a:pt x="75127" y="0"/>
                  </a:lnTo>
                  <a:lnTo>
                    <a:pt x="75127" y="444228"/>
                  </a:lnTo>
                  <a:cubicBezTo>
                    <a:pt x="75127" y="451143"/>
                    <a:pt x="69521" y="456749"/>
                    <a:pt x="62606" y="456749"/>
                  </a:cubicBezTo>
                  <a:lnTo>
                    <a:pt x="0" y="456749"/>
                  </a:lnTo>
                  <a:lnTo>
                    <a:pt x="0" y="456749"/>
                  </a:lnTo>
                  <a:lnTo>
                    <a:pt x="0" y="12521"/>
                  </a:lnTo>
                  <a:cubicBezTo>
                    <a:pt x="0" y="5606"/>
                    <a:pt x="5606" y="0"/>
                    <a:pt x="12521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 Diagonal Corner Rectangle 129"/>
            <p:cNvSpPr/>
            <p:nvPr/>
          </p:nvSpPr>
          <p:spPr>
            <a:xfrm>
              <a:off x="4743360" y="4148280"/>
              <a:ext cx="313200" cy="112680"/>
            </a:xfrm>
            <a:custGeom>
              <a:avLst/>
              <a:gdLst/>
              <a:ahLst/>
              <a:rect l="l" t="t" r="r" b="b"/>
              <a:pathLst>
                <a:path w="422856" h="152249">
                  <a:moveTo>
                    <a:pt x="25375" y="0"/>
                  </a:moveTo>
                  <a:lnTo>
                    <a:pt x="422856" y="0"/>
                  </a:lnTo>
                  <a:lnTo>
                    <a:pt x="422856" y="0"/>
                  </a:lnTo>
                  <a:lnTo>
                    <a:pt x="422856" y="126874"/>
                  </a:lnTo>
                  <a:cubicBezTo>
                    <a:pt x="422856" y="140888"/>
                    <a:pt x="411495" y="152249"/>
                    <a:pt x="397481" y="152249"/>
                  </a:cubicBezTo>
                  <a:lnTo>
                    <a:pt x="0" y="152249"/>
                  </a:lnTo>
                  <a:lnTo>
                    <a:pt x="0" y="152249"/>
                  </a:lnTo>
                  <a:lnTo>
                    <a:pt x="0" y="25375"/>
                  </a:lnTo>
                  <a:cubicBezTo>
                    <a:pt x="0" y="11361"/>
                    <a:pt x="11361" y="0"/>
                    <a:pt x="25375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ound Diagonal Corner Rectangle 130"/>
            <p:cNvSpPr/>
            <p:nvPr/>
          </p:nvSpPr>
          <p:spPr>
            <a:xfrm>
              <a:off x="4811400" y="4518000"/>
              <a:ext cx="74520" cy="282600"/>
            </a:xfrm>
            <a:custGeom>
              <a:avLst/>
              <a:gdLst/>
              <a:ahLst/>
              <a:rect l="l" t="t" r="r" b="b"/>
              <a:pathLst>
                <a:path w="100884" h="381697">
                  <a:moveTo>
                    <a:pt x="16814" y="0"/>
                  </a:moveTo>
                  <a:lnTo>
                    <a:pt x="100884" y="0"/>
                  </a:lnTo>
                  <a:lnTo>
                    <a:pt x="100884" y="0"/>
                  </a:lnTo>
                  <a:lnTo>
                    <a:pt x="100884" y="364883"/>
                  </a:lnTo>
                  <a:cubicBezTo>
                    <a:pt x="100884" y="374169"/>
                    <a:pt x="93356" y="381697"/>
                    <a:pt x="84070" y="381697"/>
                  </a:cubicBezTo>
                  <a:lnTo>
                    <a:pt x="0" y="381697"/>
                  </a:lnTo>
                  <a:lnTo>
                    <a:pt x="0" y="381697"/>
                  </a:lnTo>
                  <a:lnTo>
                    <a:pt x="0" y="16814"/>
                  </a:lnTo>
                  <a:cubicBezTo>
                    <a:pt x="0" y="7528"/>
                    <a:pt x="7528" y="0"/>
                    <a:pt x="1681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ound Diagonal Corner Rectangle 131"/>
            <p:cNvSpPr/>
            <p:nvPr/>
          </p:nvSpPr>
          <p:spPr>
            <a:xfrm>
              <a:off x="4943520" y="4518000"/>
              <a:ext cx="73080" cy="282600"/>
            </a:xfrm>
            <a:custGeom>
              <a:avLst/>
              <a:gdLst/>
              <a:ahLst/>
              <a:rect l="l" t="t" r="r" b="b"/>
              <a:pathLst>
                <a:path w="98738" h="381697">
                  <a:moveTo>
                    <a:pt x="16457" y="0"/>
                  </a:moveTo>
                  <a:lnTo>
                    <a:pt x="98738" y="0"/>
                  </a:lnTo>
                  <a:lnTo>
                    <a:pt x="98738" y="0"/>
                  </a:lnTo>
                  <a:lnTo>
                    <a:pt x="98738" y="365240"/>
                  </a:lnTo>
                  <a:cubicBezTo>
                    <a:pt x="98738" y="374329"/>
                    <a:pt x="91370" y="381697"/>
                    <a:pt x="82281" y="381697"/>
                  </a:cubicBezTo>
                  <a:lnTo>
                    <a:pt x="0" y="381697"/>
                  </a:lnTo>
                  <a:lnTo>
                    <a:pt x="0" y="381697"/>
                  </a:lnTo>
                  <a:lnTo>
                    <a:pt x="0" y="16457"/>
                  </a:lnTo>
                  <a:cubicBezTo>
                    <a:pt x="0" y="7368"/>
                    <a:pt x="7368" y="0"/>
                    <a:pt x="16457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32"/>
          <p:cNvGrpSpPr/>
          <p:nvPr/>
        </p:nvGrpSpPr>
        <p:grpSpPr>
          <a:xfrm>
            <a:off x="5124600" y="3809880"/>
            <a:ext cx="276120" cy="685800"/>
            <a:chOff x="5124600" y="3809880"/>
            <a:chExt cx="276120" cy="685800"/>
          </a:xfrm>
        </p:grpSpPr>
        <p:sp>
          <p:nvSpPr>
            <p:cNvPr id="233" name="Oval 133"/>
            <p:cNvSpPr/>
            <p:nvPr/>
          </p:nvSpPr>
          <p:spPr>
            <a:xfrm>
              <a:off x="5194440" y="3809880"/>
              <a:ext cx="138240" cy="13788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34"/>
            <p:cNvSpPr/>
            <p:nvPr/>
          </p:nvSpPr>
          <p:spPr>
            <a:xfrm>
              <a:off x="5180040" y="4008240"/>
              <a:ext cx="168120" cy="2761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ound Diagonal Corner Rectangle 135"/>
            <p:cNvSpPr/>
            <p:nvPr/>
          </p:nvSpPr>
          <p:spPr>
            <a:xfrm>
              <a:off x="5124600" y="3962160"/>
              <a:ext cx="46080" cy="276120"/>
            </a:xfrm>
            <a:custGeom>
              <a:avLst/>
              <a:gdLst/>
              <a:ahLst/>
              <a:rect l="l" t="t" r="r" b="b"/>
              <a:pathLst>
                <a:path w="76201" h="456035">
                  <a:moveTo>
                    <a:pt x="12700" y="0"/>
                  </a:moveTo>
                  <a:lnTo>
                    <a:pt x="76201" y="0"/>
                  </a:lnTo>
                  <a:lnTo>
                    <a:pt x="76201" y="0"/>
                  </a:lnTo>
                  <a:lnTo>
                    <a:pt x="76201" y="443335"/>
                  </a:lnTo>
                  <a:cubicBezTo>
                    <a:pt x="76201" y="450349"/>
                    <a:pt x="70515" y="456035"/>
                    <a:pt x="63501" y="456035"/>
                  </a:cubicBezTo>
                  <a:lnTo>
                    <a:pt x="0" y="456035"/>
                  </a:lnTo>
                  <a:lnTo>
                    <a:pt x="0" y="456035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ound Diagonal Corner Rectangle 136"/>
            <p:cNvSpPr/>
            <p:nvPr/>
          </p:nvSpPr>
          <p:spPr>
            <a:xfrm>
              <a:off x="5355000" y="3962160"/>
              <a:ext cx="45720" cy="276120"/>
            </a:xfrm>
            <a:custGeom>
              <a:avLst/>
              <a:gdLst/>
              <a:ahLst/>
              <a:rect l="l" t="t" r="r" b="b"/>
              <a:pathLst>
                <a:path w="76199" h="456035">
                  <a:moveTo>
                    <a:pt x="12700" y="0"/>
                  </a:moveTo>
                  <a:lnTo>
                    <a:pt x="76199" y="0"/>
                  </a:lnTo>
                  <a:lnTo>
                    <a:pt x="76199" y="0"/>
                  </a:lnTo>
                  <a:lnTo>
                    <a:pt x="76199" y="443335"/>
                  </a:lnTo>
                  <a:cubicBezTo>
                    <a:pt x="76199" y="450349"/>
                    <a:pt x="70513" y="456035"/>
                    <a:pt x="63499" y="456035"/>
                  </a:cubicBezTo>
                  <a:lnTo>
                    <a:pt x="0" y="456035"/>
                  </a:lnTo>
                  <a:lnTo>
                    <a:pt x="0" y="456035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ound Diagonal Corner Rectangle 137"/>
            <p:cNvSpPr/>
            <p:nvPr/>
          </p:nvSpPr>
          <p:spPr>
            <a:xfrm>
              <a:off x="5124600" y="3962160"/>
              <a:ext cx="255600" cy="91800"/>
            </a:xfrm>
            <a:custGeom>
              <a:avLst/>
              <a:gdLst/>
              <a:ahLst/>
              <a:rect l="l" t="t" r="r" b="b"/>
              <a:pathLst>
                <a:path w="423042" h="152012">
                  <a:moveTo>
                    <a:pt x="25336" y="0"/>
                  </a:moveTo>
                  <a:lnTo>
                    <a:pt x="423042" y="0"/>
                  </a:lnTo>
                  <a:lnTo>
                    <a:pt x="423042" y="0"/>
                  </a:lnTo>
                  <a:lnTo>
                    <a:pt x="423042" y="126676"/>
                  </a:lnTo>
                  <a:cubicBezTo>
                    <a:pt x="423042" y="140669"/>
                    <a:pt x="411699" y="152012"/>
                    <a:pt x="397706" y="152012"/>
                  </a:cubicBezTo>
                  <a:lnTo>
                    <a:pt x="0" y="152012"/>
                  </a:lnTo>
                  <a:lnTo>
                    <a:pt x="0" y="152012"/>
                  </a:lnTo>
                  <a:lnTo>
                    <a:pt x="0" y="25336"/>
                  </a:lnTo>
                  <a:cubicBezTo>
                    <a:pt x="0" y="11343"/>
                    <a:pt x="11343" y="0"/>
                    <a:pt x="25336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ound Diagonal Corner Rectangle 138"/>
            <p:cNvSpPr/>
            <p:nvPr/>
          </p:nvSpPr>
          <p:spPr>
            <a:xfrm>
              <a:off x="5180040" y="4265640"/>
              <a:ext cx="61920" cy="230040"/>
            </a:xfrm>
            <a:custGeom>
              <a:avLst/>
              <a:gdLst/>
              <a:ahLst/>
              <a:rect l="l" t="t" r="r" b="b"/>
              <a:pathLst>
                <a:path w="102475" h="380028">
                  <a:moveTo>
                    <a:pt x="17080" y="0"/>
                  </a:moveTo>
                  <a:lnTo>
                    <a:pt x="102475" y="0"/>
                  </a:lnTo>
                  <a:lnTo>
                    <a:pt x="102475" y="0"/>
                  </a:lnTo>
                  <a:lnTo>
                    <a:pt x="102475" y="362948"/>
                  </a:lnTo>
                  <a:cubicBezTo>
                    <a:pt x="102475" y="372381"/>
                    <a:pt x="94828" y="380028"/>
                    <a:pt x="85395" y="380028"/>
                  </a:cubicBezTo>
                  <a:lnTo>
                    <a:pt x="0" y="380028"/>
                  </a:lnTo>
                  <a:lnTo>
                    <a:pt x="0" y="380028"/>
                  </a:lnTo>
                  <a:lnTo>
                    <a:pt x="0" y="17080"/>
                  </a:lnTo>
                  <a:cubicBezTo>
                    <a:pt x="0" y="7647"/>
                    <a:pt x="7647" y="0"/>
                    <a:pt x="1708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ound Diagonal Corner Rectangle 139"/>
            <p:cNvSpPr/>
            <p:nvPr/>
          </p:nvSpPr>
          <p:spPr>
            <a:xfrm>
              <a:off x="5288040" y="4265640"/>
              <a:ext cx="60120" cy="230040"/>
            </a:xfrm>
            <a:custGeom>
              <a:avLst/>
              <a:gdLst/>
              <a:ahLst/>
              <a:rect l="l" t="t" r="r" b="b"/>
              <a:pathLst>
                <a:path w="99848" h="380028">
                  <a:moveTo>
                    <a:pt x="16642" y="0"/>
                  </a:moveTo>
                  <a:lnTo>
                    <a:pt x="99848" y="0"/>
                  </a:lnTo>
                  <a:lnTo>
                    <a:pt x="99848" y="0"/>
                  </a:lnTo>
                  <a:lnTo>
                    <a:pt x="99848" y="363386"/>
                  </a:lnTo>
                  <a:cubicBezTo>
                    <a:pt x="99848" y="372577"/>
                    <a:pt x="92397" y="380028"/>
                    <a:pt x="83206" y="380028"/>
                  </a:cubicBezTo>
                  <a:lnTo>
                    <a:pt x="0" y="380028"/>
                  </a:lnTo>
                  <a:lnTo>
                    <a:pt x="0" y="380028"/>
                  </a:lnTo>
                  <a:lnTo>
                    <a:pt x="0" y="16642"/>
                  </a:lnTo>
                  <a:cubicBezTo>
                    <a:pt x="0" y="7451"/>
                    <a:pt x="7451" y="0"/>
                    <a:pt x="16642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40"/>
          <p:cNvGrpSpPr/>
          <p:nvPr/>
        </p:nvGrpSpPr>
        <p:grpSpPr>
          <a:xfrm>
            <a:off x="5429160" y="4038480"/>
            <a:ext cx="400320" cy="990720"/>
            <a:chOff x="5429160" y="4038480"/>
            <a:chExt cx="400320" cy="990720"/>
          </a:xfrm>
        </p:grpSpPr>
        <p:sp>
          <p:nvSpPr>
            <p:cNvPr id="241" name="Oval 141"/>
            <p:cNvSpPr/>
            <p:nvPr/>
          </p:nvSpPr>
          <p:spPr>
            <a:xfrm>
              <a:off x="5529240" y="4038480"/>
              <a:ext cx="200160" cy="19980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2"/>
            <p:cNvSpPr/>
            <p:nvPr/>
          </p:nvSpPr>
          <p:spPr>
            <a:xfrm>
              <a:off x="5508360" y="4324320"/>
              <a:ext cx="246240" cy="39996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ound Diagonal Corner Rectangle 143"/>
            <p:cNvSpPr/>
            <p:nvPr/>
          </p:nvSpPr>
          <p:spPr>
            <a:xfrm>
              <a:off x="5429160" y="4257360"/>
              <a:ext cx="66600" cy="399960"/>
            </a:xfrm>
            <a:custGeom>
              <a:avLst/>
              <a:gdLst/>
              <a:ahLst/>
              <a:rect l="l" t="t" r="r" b="b"/>
              <a:pathLst>
                <a:path w="76200" h="457244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544"/>
                  </a:lnTo>
                  <a:cubicBezTo>
                    <a:pt x="76200" y="451558"/>
                    <a:pt x="70514" y="457244"/>
                    <a:pt x="63500" y="457244"/>
                  </a:cubicBezTo>
                  <a:lnTo>
                    <a:pt x="0" y="457244"/>
                  </a:lnTo>
                  <a:lnTo>
                    <a:pt x="0" y="457244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ound Diagonal Corner Rectangle 144"/>
            <p:cNvSpPr/>
            <p:nvPr/>
          </p:nvSpPr>
          <p:spPr>
            <a:xfrm>
              <a:off x="5762880" y="4257360"/>
              <a:ext cx="66600" cy="399960"/>
            </a:xfrm>
            <a:custGeom>
              <a:avLst/>
              <a:gdLst/>
              <a:ahLst/>
              <a:rect l="l" t="t" r="r" b="b"/>
              <a:pathLst>
                <a:path w="76200" h="457244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544"/>
                  </a:lnTo>
                  <a:cubicBezTo>
                    <a:pt x="76200" y="451558"/>
                    <a:pt x="70514" y="457244"/>
                    <a:pt x="63500" y="457244"/>
                  </a:cubicBezTo>
                  <a:lnTo>
                    <a:pt x="0" y="457244"/>
                  </a:lnTo>
                  <a:lnTo>
                    <a:pt x="0" y="457244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ound Diagonal Corner Rectangle 145"/>
            <p:cNvSpPr/>
            <p:nvPr/>
          </p:nvSpPr>
          <p:spPr>
            <a:xfrm>
              <a:off x="5429160" y="4257360"/>
              <a:ext cx="370440" cy="133200"/>
            </a:xfrm>
            <a:custGeom>
              <a:avLst/>
              <a:gdLst/>
              <a:ahLst/>
              <a:rect l="l" t="t" r="r" b="b"/>
              <a:pathLst>
                <a:path w="422729" h="152415">
                  <a:moveTo>
                    <a:pt x="25403" y="0"/>
                  </a:moveTo>
                  <a:lnTo>
                    <a:pt x="422729" y="0"/>
                  </a:lnTo>
                  <a:lnTo>
                    <a:pt x="422729" y="0"/>
                  </a:lnTo>
                  <a:lnTo>
                    <a:pt x="422729" y="127012"/>
                  </a:lnTo>
                  <a:cubicBezTo>
                    <a:pt x="422729" y="141042"/>
                    <a:pt x="411356" y="152415"/>
                    <a:pt x="397326" y="152415"/>
                  </a:cubicBezTo>
                  <a:lnTo>
                    <a:pt x="0" y="152415"/>
                  </a:lnTo>
                  <a:lnTo>
                    <a:pt x="0" y="152415"/>
                  </a:lnTo>
                  <a:lnTo>
                    <a:pt x="0" y="25403"/>
                  </a:lnTo>
                  <a:cubicBezTo>
                    <a:pt x="0" y="11373"/>
                    <a:pt x="11373" y="0"/>
                    <a:pt x="25403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ound Diagonal Corner Rectangle 146"/>
            <p:cNvSpPr/>
            <p:nvPr/>
          </p:nvSpPr>
          <p:spPr>
            <a:xfrm>
              <a:off x="5510160" y="4695840"/>
              <a:ext cx="87120" cy="333360"/>
            </a:xfrm>
            <a:custGeom>
              <a:avLst/>
              <a:gdLst/>
              <a:ahLst/>
              <a:rect l="l" t="t" r="r" b="b"/>
              <a:pathLst>
                <a:path w="99785" h="381037">
                  <a:moveTo>
                    <a:pt x="16631" y="0"/>
                  </a:moveTo>
                  <a:lnTo>
                    <a:pt x="99785" y="0"/>
                  </a:lnTo>
                  <a:lnTo>
                    <a:pt x="99785" y="0"/>
                  </a:lnTo>
                  <a:lnTo>
                    <a:pt x="99785" y="364406"/>
                  </a:lnTo>
                  <a:cubicBezTo>
                    <a:pt x="99785" y="373591"/>
                    <a:pt x="92339" y="381037"/>
                    <a:pt x="83154" y="381037"/>
                  </a:cubicBezTo>
                  <a:lnTo>
                    <a:pt x="0" y="381037"/>
                  </a:lnTo>
                  <a:lnTo>
                    <a:pt x="0" y="381037"/>
                  </a:lnTo>
                  <a:lnTo>
                    <a:pt x="0" y="16631"/>
                  </a:lnTo>
                  <a:cubicBezTo>
                    <a:pt x="0" y="7446"/>
                    <a:pt x="7446" y="0"/>
                    <a:pt x="16631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ound Diagonal Corner Rectangle 147"/>
            <p:cNvSpPr/>
            <p:nvPr/>
          </p:nvSpPr>
          <p:spPr>
            <a:xfrm>
              <a:off x="5664240" y="4695840"/>
              <a:ext cx="88920" cy="333360"/>
            </a:xfrm>
            <a:custGeom>
              <a:avLst/>
              <a:gdLst/>
              <a:ahLst/>
              <a:rect l="l" t="t" r="r" b="b"/>
              <a:pathLst>
                <a:path w="101600" h="381037">
                  <a:moveTo>
                    <a:pt x="16934" y="0"/>
                  </a:moveTo>
                  <a:lnTo>
                    <a:pt x="101600" y="0"/>
                  </a:lnTo>
                  <a:lnTo>
                    <a:pt x="101600" y="0"/>
                  </a:lnTo>
                  <a:lnTo>
                    <a:pt x="101600" y="364103"/>
                  </a:lnTo>
                  <a:cubicBezTo>
                    <a:pt x="101600" y="373455"/>
                    <a:pt x="94018" y="381037"/>
                    <a:pt x="84666" y="381037"/>
                  </a:cubicBezTo>
                  <a:lnTo>
                    <a:pt x="0" y="381037"/>
                  </a:lnTo>
                  <a:lnTo>
                    <a:pt x="0" y="381037"/>
                  </a:lnTo>
                  <a:lnTo>
                    <a:pt x="0" y="16934"/>
                  </a:lnTo>
                  <a:cubicBezTo>
                    <a:pt x="0" y="7582"/>
                    <a:pt x="7582" y="0"/>
                    <a:pt x="1693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48"/>
          <p:cNvGrpSpPr/>
          <p:nvPr/>
        </p:nvGrpSpPr>
        <p:grpSpPr>
          <a:xfrm>
            <a:off x="552600" y="4038480"/>
            <a:ext cx="457200" cy="1131840"/>
            <a:chOff x="552600" y="4038480"/>
            <a:chExt cx="457200" cy="1131840"/>
          </a:xfrm>
        </p:grpSpPr>
        <p:sp>
          <p:nvSpPr>
            <p:cNvPr id="249" name="Oval 149"/>
            <p:cNvSpPr/>
            <p:nvPr/>
          </p:nvSpPr>
          <p:spPr>
            <a:xfrm>
              <a:off x="666720" y="4038480"/>
              <a:ext cx="228600" cy="22860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0"/>
            <p:cNvSpPr/>
            <p:nvPr/>
          </p:nvSpPr>
          <p:spPr>
            <a:xfrm>
              <a:off x="644400" y="4365360"/>
              <a:ext cx="279360" cy="4572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ound Diagonal Corner Rectangle 151"/>
            <p:cNvSpPr/>
            <p:nvPr/>
          </p:nvSpPr>
          <p:spPr>
            <a:xfrm>
              <a:off x="552600" y="4289040"/>
              <a:ext cx="75960" cy="457200"/>
            </a:xfrm>
            <a:custGeom>
              <a:avLst/>
              <a:gdLst/>
              <a:ahLst/>
              <a:rect l="l" t="t" r="r" b="b"/>
              <a:pathLst>
                <a:path w="76200" h="457336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636"/>
                  </a:lnTo>
                  <a:cubicBezTo>
                    <a:pt x="76200" y="451650"/>
                    <a:pt x="70514" y="457336"/>
                    <a:pt x="63500" y="457336"/>
                  </a:cubicBezTo>
                  <a:lnTo>
                    <a:pt x="0" y="457336"/>
                  </a:lnTo>
                  <a:lnTo>
                    <a:pt x="0" y="457336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ound Diagonal Corner Rectangle 152"/>
            <p:cNvSpPr/>
            <p:nvPr/>
          </p:nvSpPr>
          <p:spPr>
            <a:xfrm>
              <a:off x="933840" y="4289040"/>
              <a:ext cx="75960" cy="457200"/>
            </a:xfrm>
            <a:custGeom>
              <a:avLst/>
              <a:gdLst/>
              <a:ahLst/>
              <a:rect l="l" t="t" r="r" b="b"/>
              <a:pathLst>
                <a:path w="76200" h="457336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636"/>
                  </a:lnTo>
                  <a:cubicBezTo>
                    <a:pt x="76200" y="451650"/>
                    <a:pt x="70514" y="457336"/>
                    <a:pt x="63500" y="457336"/>
                  </a:cubicBezTo>
                  <a:lnTo>
                    <a:pt x="0" y="457336"/>
                  </a:lnTo>
                  <a:lnTo>
                    <a:pt x="0" y="457336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ound Diagonal Corner Rectangle 153"/>
            <p:cNvSpPr/>
            <p:nvPr/>
          </p:nvSpPr>
          <p:spPr>
            <a:xfrm>
              <a:off x="552600" y="4289040"/>
              <a:ext cx="424080" cy="152280"/>
            </a:xfrm>
            <a:custGeom>
              <a:avLst/>
              <a:gdLst/>
              <a:ahLst/>
              <a:rect l="l" t="t" r="r" b="b"/>
              <a:pathLst>
                <a:path w="423863" h="152445">
                  <a:moveTo>
                    <a:pt x="25408" y="0"/>
                  </a:moveTo>
                  <a:lnTo>
                    <a:pt x="423863" y="0"/>
                  </a:lnTo>
                  <a:lnTo>
                    <a:pt x="423863" y="0"/>
                  </a:lnTo>
                  <a:lnTo>
                    <a:pt x="423863" y="127037"/>
                  </a:lnTo>
                  <a:cubicBezTo>
                    <a:pt x="423863" y="141069"/>
                    <a:pt x="412487" y="152445"/>
                    <a:pt x="398455" y="152445"/>
                  </a:cubicBezTo>
                  <a:lnTo>
                    <a:pt x="0" y="152445"/>
                  </a:lnTo>
                  <a:lnTo>
                    <a:pt x="0" y="152445"/>
                  </a:lnTo>
                  <a:lnTo>
                    <a:pt x="0" y="25408"/>
                  </a:lnTo>
                  <a:cubicBezTo>
                    <a:pt x="0" y="11376"/>
                    <a:pt x="11376" y="0"/>
                    <a:pt x="25408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ound Diagonal Corner Rectangle 154"/>
            <p:cNvSpPr/>
            <p:nvPr/>
          </p:nvSpPr>
          <p:spPr>
            <a:xfrm>
              <a:off x="644400" y="4789440"/>
              <a:ext cx="101520" cy="380880"/>
            </a:xfrm>
            <a:custGeom>
              <a:avLst/>
              <a:gdLst/>
              <a:ahLst/>
              <a:rect l="l" t="t" r="r" b="b"/>
              <a:pathLst>
                <a:path w="101600" h="381113">
                  <a:moveTo>
                    <a:pt x="16934" y="0"/>
                  </a:moveTo>
                  <a:lnTo>
                    <a:pt x="101600" y="0"/>
                  </a:lnTo>
                  <a:lnTo>
                    <a:pt x="101600" y="0"/>
                  </a:lnTo>
                  <a:lnTo>
                    <a:pt x="101600" y="364179"/>
                  </a:lnTo>
                  <a:cubicBezTo>
                    <a:pt x="101600" y="373531"/>
                    <a:pt x="94018" y="381113"/>
                    <a:pt x="84666" y="381113"/>
                  </a:cubicBezTo>
                  <a:lnTo>
                    <a:pt x="0" y="381113"/>
                  </a:lnTo>
                  <a:lnTo>
                    <a:pt x="0" y="381113"/>
                  </a:lnTo>
                  <a:lnTo>
                    <a:pt x="0" y="16934"/>
                  </a:lnTo>
                  <a:cubicBezTo>
                    <a:pt x="0" y="7582"/>
                    <a:pt x="7582" y="0"/>
                    <a:pt x="1693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ound Diagonal Corner Rectangle 155"/>
            <p:cNvSpPr/>
            <p:nvPr/>
          </p:nvSpPr>
          <p:spPr>
            <a:xfrm>
              <a:off x="822600" y="4789440"/>
              <a:ext cx="100080" cy="380880"/>
            </a:xfrm>
            <a:custGeom>
              <a:avLst/>
              <a:gdLst/>
              <a:ahLst/>
              <a:rect l="l" t="t" r="r" b="b"/>
              <a:pathLst>
                <a:path w="100013" h="381113">
                  <a:moveTo>
                    <a:pt x="16669" y="0"/>
                  </a:moveTo>
                  <a:lnTo>
                    <a:pt x="100013" y="0"/>
                  </a:lnTo>
                  <a:lnTo>
                    <a:pt x="100013" y="0"/>
                  </a:lnTo>
                  <a:lnTo>
                    <a:pt x="100013" y="364444"/>
                  </a:lnTo>
                  <a:cubicBezTo>
                    <a:pt x="100013" y="373650"/>
                    <a:pt x="92550" y="381113"/>
                    <a:pt x="83344" y="381113"/>
                  </a:cubicBezTo>
                  <a:lnTo>
                    <a:pt x="0" y="381113"/>
                  </a:lnTo>
                  <a:lnTo>
                    <a:pt x="0" y="381113"/>
                  </a:lnTo>
                  <a:lnTo>
                    <a:pt x="0" y="16669"/>
                  </a:lnTo>
                  <a:cubicBezTo>
                    <a:pt x="0" y="7463"/>
                    <a:pt x="7463" y="0"/>
                    <a:pt x="16669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88"/>
          <p:cNvGrpSpPr/>
          <p:nvPr/>
        </p:nvGrpSpPr>
        <p:grpSpPr>
          <a:xfrm>
            <a:off x="7334280" y="4191120"/>
            <a:ext cx="457200" cy="1131840"/>
            <a:chOff x="7334280" y="4191120"/>
            <a:chExt cx="457200" cy="1131840"/>
          </a:xfrm>
        </p:grpSpPr>
        <p:sp>
          <p:nvSpPr>
            <p:cNvPr id="257" name="Oval 189"/>
            <p:cNvSpPr/>
            <p:nvPr/>
          </p:nvSpPr>
          <p:spPr>
            <a:xfrm>
              <a:off x="7448400" y="4191120"/>
              <a:ext cx="228600" cy="22860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90"/>
            <p:cNvSpPr/>
            <p:nvPr/>
          </p:nvSpPr>
          <p:spPr>
            <a:xfrm>
              <a:off x="7426080" y="4518000"/>
              <a:ext cx="279360" cy="4572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ound Diagonal Corner Rectangle 191"/>
            <p:cNvSpPr/>
            <p:nvPr/>
          </p:nvSpPr>
          <p:spPr>
            <a:xfrm>
              <a:off x="7334280" y="4441680"/>
              <a:ext cx="75960" cy="457200"/>
            </a:xfrm>
            <a:custGeom>
              <a:avLst/>
              <a:gdLst/>
              <a:ahLst/>
              <a:rect l="l" t="t" r="r" b="b"/>
              <a:pathLst>
                <a:path w="76200" h="457336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636"/>
                  </a:lnTo>
                  <a:cubicBezTo>
                    <a:pt x="76200" y="451650"/>
                    <a:pt x="70514" y="457336"/>
                    <a:pt x="63500" y="457336"/>
                  </a:cubicBezTo>
                  <a:lnTo>
                    <a:pt x="0" y="457336"/>
                  </a:lnTo>
                  <a:lnTo>
                    <a:pt x="0" y="457336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ound Diagonal Corner Rectangle 192"/>
            <p:cNvSpPr/>
            <p:nvPr/>
          </p:nvSpPr>
          <p:spPr>
            <a:xfrm>
              <a:off x="7715520" y="4441680"/>
              <a:ext cx="75960" cy="457200"/>
            </a:xfrm>
            <a:custGeom>
              <a:avLst/>
              <a:gdLst/>
              <a:ahLst/>
              <a:rect l="l" t="t" r="r" b="b"/>
              <a:pathLst>
                <a:path w="76200" h="457336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636"/>
                  </a:lnTo>
                  <a:cubicBezTo>
                    <a:pt x="76200" y="451650"/>
                    <a:pt x="70514" y="457336"/>
                    <a:pt x="63500" y="457336"/>
                  </a:cubicBezTo>
                  <a:lnTo>
                    <a:pt x="0" y="457336"/>
                  </a:lnTo>
                  <a:lnTo>
                    <a:pt x="0" y="457336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ound Diagonal Corner Rectangle 193"/>
            <p:cNvSpPr/>
            <p:nvPr/>
          </p:nvSpPr>
          <p:spPr>
            <a:xfrm>
              <a:off x="7334280" y="4441680"/>
              <a:ext cx="424080" cy="152280"/>
            </a:xfrm>
            <a:custGeom>
              <a:avLst/>
              <a:gdLst/>
              <a:ahLst/>
              <a:rect l="l" t="t" r="r" b="b"/>
              <a:pathLst>
                <a:path w="423863" h="152445">
                  <a:moveTo>
                    <a:pt x="25408" y="0"/>
                  </a:moveTo>
                  <a:lnTo>
                    <a:pt x="423863" y="0"/>
                  </a:lnTo>
                  <a:lnTo>
                    <a:pt x="423863" y="0"/>
                  </a:lnTo>
                  <a:lnTo>
                    <a:pt x="423863" y="127037"/>
                  </a:lnTo>
                  <a:cubicBezTo>
                    <a:pt x="423863" y="141069"/>
                    <a:pt x="412487" y="152445"/>
                    <a:pt x="398455" y="152445"/>
                  </a:cubicBezTo>
                  <a:lnTo>
                    <a:pt x="0" y="152445"/>
                  </a:lnTo>
                  <a:lnTo>
                    <a:pt x="0" y="152445"/>
                  </a:lnTo>
                  <a:lnTo>
                    <a:pt x="0" y="25408"/>
                  </a:lnTo>
                  <a:cubicBezTo>
                    <a:pt x="0" y="11376"/>
                    <a:pt x="11376" y="0"/>
                    <a:pt x="25408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ound Diagonal Corner Rectangle 194"/>
            <p:cNvSpPr/>
            <p:nvPr/>
          </p:nvSpPr>
          <p:spPr>
            <a:xfrm>
              <a:off x="7426080" y="4942080"/>
              <a:ext cx="101520" cy="380880"/>
            </a:xfrm>
            <a:custGeom>
              <a:avLst/>
              <a:gdLst/>
              <a:ahLst/>
              <a:rect l="l" t="t" r="r" b="b"/>
              <a:pathLst>
                <a:path w="101600" h="381113">
                  <a:moveTo>
                    <a:pt x="16934" y="0"/>
                  </a:moveTo>
                  <a:lnTo>
                    <a:pt x="101600" y="0"/>
                  </a:lnTo>
                  <a:lnTo>
                    <a:pt x="101600" y="0"/>
                  </a:lnTo>
                  <a:lnTo>
                    <a:pt x="101600" y="364179"/>
                  </a:lnTo>
                  <a:cubicBezTo>
                    <a:pt x="101600" y="373531"/>
                    <a:pt x="94018" y="381113"/>
                    <a:pt x="84666" y="381113"/>
                  </a:cubicBezTo>
                  <a:lnTo>
                    <a:pt x="0" y="381113"/>
                  </a:lnTo>
                  <a:lnTo>
                    <a:pt x="0" y="381113"/>
                  </a:lnTo>
                  <a:lnTo>
                    <a:pt x="0" y="16934"/>
                  </a:lnTo>
                  <a:cubicBezTo>
                    <a:pt x="0" y="7582"/>
                    <a:pt x="7582" y="0"/>
                    <a:pt x="1693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ound Diagonal Corner Rectangle 195"/>
            <p:cNvSpPr/>
            <p:nvPr/>
          </p:nvSpPr>
          <p:spPr>
            <a:xfrm>
              <a:off x="7604280" y="4942080"/>
              <a:ext cx="100080" cy="380880"/>
            </a:xfrm>
            <a:custGeom>
              <a:avLst/>
              <a:gdLst/>
              <a:ahLst/>
              <a:rect l="l" t="t" r="r" b="b"/>
              <a:pathLst>
                <a:path w="100013" h="381113">
                  <a:moveTo>
                    <a:pt x="16669" y="0"/>
                  </a:moveTo>
                  <a:lnTo>
                    <a:pt x="100013" y="0"/>
                  </a:lnTo>
                  <a:lnTo>
                    <a:pt x="100013" y="0"/>
                  </a:lnTo>
                  <a:lnTo>
                    <a:pt x="100013" y="364444"/>
                  </a:lnTo>
                  <a:cubicBezTo>
                    <a:pt x="100013" y="373650"/>
                    <a:pt x="92550" y="381113"/>
                    <a:pt x="83344" y="381113"/>
                  </a:cubicBezTo>
                  <a:lnTo>
                    <a:pt x="0" y="381113"/>
                  </a:lnTo>
                  <a:lnTo>
                    <a:pt x="0" y="381113"/>
                  </a:lnTo>
                  <a:lnTo>
                    <a:pt x="0" y="16669"/>
                  </a:lnTo>
                  <a:cubicBezTo>
                    <a:pt x="0" y="7463"/>
                    <a:pt x="7463" y="0"/>
                    <a:pt x="16669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96"/>
          <p:cNvGrpSpPr/>
          <p:nvPr/>
        </p:nvGrpSpPr>
        <p:grpSpPr>
          <a:xfrm>
            <a:off x="7867800" y="4038480"/>
            <a:ext cx="399960" cy="990720"/>
            <a:chOff x="7867800" y="4038480"/>
            <a:chExt cx="399960" cy="990720"/>
          </a:xfrm>
        </p:grpSpPr>
        <p:sp>
          <p:nvSpPr>
            <p:cNvPr id="265" name="Oval 197"/>
            <p:cNvSpPr/>
            <p:nvPr/>
          </p:nvSpPr>
          <p:spPr>
            <a:xfrm>
              <a:off x="7967880" y="4038480"/>
              <a:ext cx="199800" cy="19980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8"/>
            <p:cNvSpPr/>
            <p:nvPr/>
          </p:nvSpPr>
          <p:spPr>
            <a:xfrm>
              <a:off x="7947000" y="4324320"/>
              <a:ext cx="245880" cy="39996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ound Diagonal Corner Rectangle 199"/>
            <p:cNvSpPr/>
            <p:nvPr/>
          </p:nvSpPr>
          <p:spPr>
            <a:xfrm>
              <a:off x="7867800" y="4257360"/>
              <a:ext cx="66600" cy="399960"/>
            </a:xfrm>
            <a:custGeom>
              <a:avLst/>
              <a:gdLst/>
              <a:ahLst/>
              <a:rect l="l" t="t" r="r" b="b"/>
              <a:pathLst>
                <a:path w="76200" h="457244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544"/>
                  </a:lnTo>
                  <a:cubicBezTo>
                    <a:pt x="76200" y="451558"/>
                    <a:pt x="70514" y="457244"/>
                    <a:pt x="63500" y="457244"/>
                  </a:cubicBezTo>
                  <a:lnTo>
                    <a:pt x="0" y="457244"/>
                  </a:lnTo>
                  <a:lnTo>
                    <a:pt x="0" y="457244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ound Diagonal Corner Rectangle 200"/>
            <p:cNvSpPr/>
            <p:nvPr/>
          </p:nvSpPr>
          <p:spPr>
            <a:xfrm>
              <a:off x="8201160" y="4257360"/>
              <a:ext cx="66600" cy="399960"/>
            </a:xfrm>
            <a:custGeom>
              <a:avLst/>
              <a:gdLst/>
              <a:ahLst/>
              <a:rect l="l" t="t" r="r" b="b"/>
              <a:pathLst>
                <a:path w="76200" h="457244">
                  <a:moveTo>
                    <a:pt x="12700" y="0"/>
                  </a:moveTo>
                  <a:lnTo>
                    <a:pt x="76200" y="0"/>
                  </a:lnTo>
                  <a:lnTo>
                    <a:pt x="76200" y="0"/>
                  </a:lnTo>
                  <a:lnTo>
                    <a:pt x="76200" y="444544"/>
                  </a:lnTo>
                  <a:cubicBezTo>
                    <a:pt x="76200" y="451558"/>
                    <a:pt x="70514" y="457244"/>
                    <a:pt x="63500" y="457244"/>
                  </a:cubicBezTo>
                  <a:lnTo>
                    <a:pt x="0" y="457244"/>
                  </a:lnTo>
                  <a:lnTo>
                    <a:pt x="0" y="457244"/>
                  </a:lnTo>
                  <a:lnTo>
                    <a:pt x="0" y="12700"/>
                  </a:lnTo>
                  <a:cubicBezTo>
                    <a:pt x="0" y="5686"/>
                    <a:pt x="5686" y="0"/>
                    <a:pt x="12700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ound Diagonal Corner Rectangle 201"/>
            <p:cNvSpPr/>
            <p:nvPr/>
          </p:nvSpPr>
          <p:spPr>
            <a:xfrm>
              <a:off x="7867800" y="4257360"/>
              <a:ext cx="370080" cy="133200"/>
            </a:xfrm>
            <a:custGeom>
              <a:avLst/>
              <a:gdLst/>
              <a:ahLst/>
              <a:rect l="l" t="t" r="r" b="b"/>
              <a:pathLst>
                <a:path w="422729" h="152415">
                  <a:moveTo>
                    <a:pt x="25403" y="0"/>
                  </a:moveTo>
                  <a:lnTo>
                    <a:pt x="422729" y="0"/>
                  </a:lnTo>
                  <a:lnTo>
                    <a:pt x="422729" y="0"/>
                  </a:lnTo>
                  <a:lnTo>
                    <a:pt x="422729" y="127012"/>
                  </a:lnTo>
                  <a:cubicBezTo>
                    <a:pt x="422729" y="141042"/>
                    <a:pt x="411356" y="152415"/>
                    <a:pt x="397326" y="152415"/>
                  </a:cubicBezTo>
                  <a:lnTo>
                    <a:pt x="0" y="152415"/>
                  </a:lnTo>
                  <a:lnTo>
                    <a:pt x="0" y="152415"/>
                  </a:lnTo>
                  <a:lnTo>
                    <a:pt x="0" y="25403"/>
                  </a:lnTo>
                  <a:cubicBezTo>
                    <a:pt x="0" y="11373"/>
                    <a:pt x="11373" y="0"/>
                    <a:pt x="25403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 Diagonal Corner Rectangle 202"/>
            <p:cNvSpPr/>
            <p:nvPr/>
          </p:nvSpPr>
          <p:spPr>
            <a:xfrm>
              <a:off x="7948800" y="4695840"/>
              <a:ext cx="87120" cy="333360"/>
            </a:xfrm>
            <a:custGeom>
              <a:avLst/>
              <a:gdLst/>
              <a:ahLst/>
              <a:rect l="l" t="t" r="r" b="b"/>
              <a:pathLst>
                <a:path w="99785" h="381037">
                  <a:moveTo>
                    <a:pt x="16631" y="0"/>
                  </a:moveTo>
                  <a:lnTo>
                    <a:pt x="99785" y="0"/>
                  </a:lnTo>
                  <a:lnTo>
                    <a:pt x="99785" y="0"/>
                  </a:lnTo>
                  <a:lnTo>
                    <a:pt x="99785" y="364406"/>
                  </a:lnTo>
                  <a:cubicBezTo>
                    <a:pt x="99785" y="373591"/>
                    <a:pt x="92339" y="381037"/>
                    <a:pt x="83154" y="381037"/>
                  </a:cubicBezTo>
                  <a:lnTo>
                    <a:pt x="0" y="381037"/>
                  </a:lnTo>
                  <a:lnTo>
                    <a:pt x="0" y="381037"/>
                  </a:lnTo>
                  <a:lnTo>
                    <a:pt x="0" y="16631"/>
                  </a:lnTo>
                  <a:cubicBezTo>
                    <a:pt x="0" y="7446"/>
                    <a:pt x="7446" y="0"/>
                    <a:pt x="16631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ound Diagonal Corner Rectangle 203"/>
            <p:cNvSpPr/>
            <p:nvPr/>
          </p:nvSpPr>
          <p:spPr>
            <a:xfrm>
              <a:off x="8102880" y="4695840"/>
              <a:ext cx="88920" cy="333360"/>
            </a:xfrm>
            <a:custGeom>
              <a:avLst/>
              <a:gdLst/>
              <a:ahLst/>
              <a:rect l="l" t="t" r="r" b="b"/>
              <a:pathLst>
                <a:path w="101600" h="381037">
                  <a:moveTo>
                    <a:pt x="16934" y="0"/>
                  </a:moveTo>
                  <a:lnTo>
                    <a:pt x="101600" y="0"/>
                  </a:lnTo>
                  <a:lnTo>
                    <a:pt x="101600" y="0"/>
                  </a:lnTo>
                  <a:lnTo>
                    <a:pt x="101600" y="364103"/>
                  </a:lnTo>
                  <a:cubicBezTo>
                    <a:pt x="101600" y="373455"/>
                    <a:pt x="94018" y="381037"/>
                    <a:pt x="84666" y="381037"/>
                  </a:cubicBezTo>
                  <a:lnTo>
                    <a:pt x="0" y="381037"/>
                  </a:lnTo>
                  <a:lnTo>
                    <a:pt x="0" y="381037"/>
                  </a:lnTo>
                  <a:lnTo>
                    <a:pt x="0" y="16934"/>
                  </a:lnTo>
                  <a:cubicBezTo>
                    <a:pt x="0" y="7582"/>
                    <a:pt x="7582" y="0"/>
                    <a:pt x="1693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4"/>
          <p:cNvGrpSpPr/>
          <p:nvPr/>
        </p:nvGrpSpPr>
        <p:grpSpPr>
          <a:xfrm>
            <a:off x="8325000" y="3962520"/>
            <a:ext cx="338040" cy="838080"/>
            <a:chOff x="8325000" y="3962520"/>
            <a:chExt cx="338040" cy="838080"/>
          </a:xfrm>
        </p:grpSpPr>
        <p:sp>
          <p:nvSpPr>
            <p:cNvPr id="273" name="Oval 205"/>
            <p:cNvSpPr/>
            <p:nvPr/>
          </p:nvSpPr>
          <p:spPr>
            <a:xfrm>
              <a:off x="8408880" y="3962520"/>
              <a:ext cx="169920" cy="169560"/>
            </a:xfrm>
            <a:prstGeom prst="ellipse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06"/>
            <p:cNvSpPr/>
            <p:nvPr/>
          </p:nvSpPr>
          <p:spPr>
            <a:xfrm>
              <a:off x="8393040" y="4205160"/>
              <a:ext cx="206280" cy="33804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ound Diagonal Corner Rectangle 207"/>
            <p:cNvSpPr/>
            <p:nvPr/>
          </p:nvSpPr>
          <p:spPr>
            <a:xfrm>
              <a:off x="8325000" y="4148280"/>
              <a:ext cx="56880" cy="338040"/>
            </a:xfrm>
            <a:custGeom>
              <a:avLst/>
              <a:gdLst/>
              <a:ahLst/>
              <a:rect l="l" t="t" r="r" b="b"/>
              <a:pathLst>
                <a:path w="77273" h="456749">
                  <a:moveTo>
                    <a:pt x="12879" y="0"/>
                  </a:moveTo>
                  <a:lnTo>
                    <a:pt x="77273" y="0"/>
                  </a:lnTo>
                  <a:lnTo>
                    <a:pt x="77273" y="0"/>
                  </a:lnTo>
                  <a:lnTo>
                    <a:pt x="77273" y="443870"/>
                  </a:lnTo>
                  <a:cubicBezTo>
                    <a:pt x="77273" y="450983"/>
                    <a:pt x="71507" y="456749"/>
                    <a:pt x="64394" y="456749"/>
                  </a:cubicBezTo>
                  <a:lnTo>
                    <a:pt x="0" y="456749"/>
                  </a:lnTo>
                  <a:lnTo>
                    <a:pt x="0" y="456749"/>
                  </a:lnTo>
                  <a:lnTo>
                    <a:pt x="0" y="12879"/>
                  </a:lnTo>
                  <a:cubicBezTo>
                    <a:pt x="0" y="5766"/>
                    <a:pt x="5766" y="0"/>
                    <a:pt x="12879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ound Diagonal Corner Rectangle 208"/>
            <p:cNvSpPr/>
            <p:nvPr/>
          </p:nvSpPr>
          <p:spPr>
            <a:xfrm>
              <a:off x="8607600" y="4148280"/>
              <a:ext cx="55440" cy="338040"/>
            </a:xfrm>
            <a:custGeom>
              <a:avLst/>
              <a:gdLst/>
              <a:ahLst/>
              <a:rect l="l" t="t" r="r" b="b"/>
              <a:pathLst>
                <a:path w="75127" h="456749">
                  <a:moveTo>
                    <a:pt x="12521" y="0"/>
                  </a:moveTo>
                  <a:lnTo>
                    <a:pt x="75127" y="0"/>
                  </a:lnTo>
                  <a:lnTo>
                    <a:pt x="75127" y="0"/>
                  </a:lnTo>
                  <a:lnTo>
                    <a:pt x="75127" y="444228"/>
                  </a:lnTo>
                  <a:cubicBezTo>
                    <a:pt x="75127" y="451143"/>
                    <a:pt x="69521" y="456749"/>
                    <a:pt x="62606" y="456749"/>
                  </a:cubicBezTo>
                  <a:lnTo>
                    <a:pt x="0" y="456749"/>
                  </a:lnTo>
                  <a:lnTo>
                    <a:pt x="0" y="456749"/>
                  </a:lnTo>
                  <a:lnTo>
                    <a:pt x="0" y="12521"/>
                  </a:lnTo>
                  <a:cubicBezTo>
                    <a:pt x="0" y="5606"/>
                    <a:pt x="5606" y="0"/>
                    <a:pt x="12521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ound Diagonal Corner Rectangle 209"/>
            <p:cNvSpPr/>
            <p:nvPr/>
          </p:nvSpPr>
          <p:spPr>
            <a:xfrm>
              <a:off x="8325000" y="4148280"/>
              <a:ext cx="312840" cy="112680"/>
            </a:xfrm>
            <a:custGeom>
              <a:avLst/>
              <a:gdLst/>
              <a:ahLst/>
              <a:rect l="l" t="t" r="r" b="b"/>
              <a:pathLst>
                <a:path w="422856" h="152249">
                  <a:moveTo>
                    <a:pt x="25375" y="0"/>
                  </a:moveTo>
                  <a:lnTo>
                    <a:pt x="422856" y="0"/>
                  </a:lnTo>
                  <a:lnTo>
                    <a:pt x="422856" y="0"/>
                  </a:lnTo>
                  <a:lnTo>
                    <a:pt x="422856" y="126874"/>
                  </a:lnTo>
                  <a:cubicBezTo>
                    <a:pt x="422856" y="140888"/>
                    <a:pt x="411495" y="152249"/>
                    <a:pt x="397481" y="152249"/>
                  </a:cubicBezTo>
                  <a:lnTo>
                    <a:pt x="0" y="152249"/>
                  </a:lnTo>
                  <a:lnTo>
                    <a:pt x="0" y="152249"/>
                  </a:lnTo>
                  <a:lnTo>
                    <a:pt x="0" y="25375"/>
                  </a:lnTo>
                  <a:cubicBezTo>
                    <a:pt x="0" y="11361"/>
                    <a:pt x="11361" y="0"/>
                    <a:pt x="25375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ound Diagonal Corner Rectangle 210"/>
            <p:cNvSpPr/>
            <p:nvPr/>
          </p:nvSpPr>
          <p:spPr>
            <a:xfrm>
              <a:off x="8393040" y="4518000"/>
              <a:ext cx="74520" cy="282600"/>
            </a:xfrm>
            <a:custGeom>
              <a:avLst/>
              <a:gdLst/>
              <a:ahLst/>
              <a:rect l="l" t="t" r="r" b="b"/>
              <a:pathLst>
                <a:path w="100884" h="381697">
                  <a:moveTo>
                    <a:pt x="16814" y="0"/>
                  </a:moveTo>
                  <a:lnTo>
                    <a:pt x="100884" y="0"/>
                  </a:lnTo>
                  <a:lnTo>
                    <a:pt x="100884" y="0"/>
                  </a:lnTo>
                  <a:lnTo>
                    <a:pt x="100884" y="364883"/>
                  </a:lnTo>
                  <a:cubicBezTo>
                    <a:pt x="100884" y="374169"/>
                    <a:pt x="93356" y="381697"/>
                    <a:pt x="84070" y="381697"/>
                  </a:cubicBezTo>
                  <a:lnTo>
                    <a:pt x="0" y="381697"/>
                  </a:lnTo>
                  <a:lnTo>
                    <a:pt x="0" y="381697"/>
                  </a:lnTo>
                  <a:lnTo>
                    <a:pt x="0" y="16814"/>
                  </a:lnTo>
                  <a:cubicBezTo>
                    <a:pt x="0" y="7528"/>
                    <a:pt x="7528" y="0"/>
                    <a:pt x="16814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ound Diagonal Corner Rectangle 211"/>
            <p:cNvSpPr/>
            <p:nvPr/>
          </p:nvSpPr>
          <p:spPr>
            <a:xfrm>
              <a:off x="8525160" y="4518000"/>
              <a:ext cx="73080" cy="282600"/>
            </a:xfrm>
            <a:custGeom>
              <a:avLst/>
              <a:gdLst/>
              <a:ahLst/>
              <a:rect l="l" t="t" r="r" b="b"/>
              <a:pathLst>
                <a:path w="98738" h="381697">
                  <a:moveTo>
                    <a:pt x="16457" y="0"/>
                  </a:moveTo>
                  <a:lnTo>
                    <a:pt x="98738" y="0"/>
                  </a:lnTo>
                  <a:lnTo>
                    <a:pt x="98738" y="0"/>
                  </a:lnTo>
                  <a:lnTo>
                    <a:pt x="98738" y="365240"/>
                  </a:lnTo>
                  <a:cubicBezTo>
                    <a:pt x="98738" y="374329"/>
                    <a:pt x="91370" y="381697"/>
                    <a:pt x="82281" y="381697"/>
                  </a:cubicBezTo>
                  <a:lnTo>
                    <a:pt x="0" y="381697"/>
                  </a:lnTo>
                  <a:lnTo>
                    <a:pt x="0" y="381697"/>
                  </a:lnTo>
                  <a:lnTo>
                    <a:pt x="0" y="16457"/>
                  </a:lnTo>
                  <a:cubicBezTo>
                    <a:pt x="0" y="7368"/>
                    <a:pt x="7368" y="0"/>
                    <a:pt x="16457" y="0"/>
                  </a:cubicBezTo>
                  <a:close/>
                </a:path>
              </a:pathLst>
            </a:cu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Cloud Callout 6"/>
          <p:cNvSpPr/>
          <p:nvPr/>
        </p:nvSpPr>
        <p:spPr>
          <a:xfrm>
            <a:off x="628560" y="3276720"/>
            <a:ext cx="795600" cy="533160"/>
          </a:xfrm>
          <a:prstGeom prst="cloudCallout">
            <a:avLst>
              <a:gd name="adj1" fmla="val -22523"/>
              <a:gd name="adj2" fmla="val 77652"/>
            </a:avLst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 Callout 213"/>
          <p:cNvSpPr/>
          <p:nvPr/>
        </p:nvSpPr>
        <p:spPr>
          <a:xfrm>
            <a:off x="5429160" y="3276720"/>
            <a:ext cx="795600" cy="533160"/>
          </a:xfrm>
          <a:prstGeom prst="cloudCallout">
            <a:avLst>
              <a:gd name="adj1" fmla="val -22523"/>
              <a:gd name="adj2" fmla="val 77652"/>
            </a:avLst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4" descr="ftt-cn_template01_credits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685800" y="2819520"/>
            <a:ext cx="312408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t Fast Track Tools, we provide professional training, strategic coaching and one-of-a-kind tools to help you create presentations that put you on the fast track to success. Be sure to visit our site for lots of free advice, a gallery of presentations and information to help you learn how to communicate to w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5800" y="5249880"/>
            <a:ext cx="30481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2"/>
              </a:rPr>
              <a:t>www.fas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@FastTrack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3"/>
              </a:rPr>
              <a:t>ken@fast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5275440" y="2971800"/>
            <a:ext cx="30477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roducing Cubicle Ninjas. We're a dedicated team of creative design and illustration warriors, and we'd like to be your one-stop marketing resource. Give us a call. We take your projects on like they're our own, so you can focus on doing what you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5257800" y="5249880"/>
            <a:ext cx="30481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4"/>
              </a:rPr>
              <a:t>www.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630) 940-63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5"/>
              </a:rPr>
              <a:t>hello@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5029200" y="45720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457200" y="457200"/>
            <a:ext cx="36910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allenges are brought to life as hurd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609480" y="4754520"/>
            <a:ext cx="217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3467160" y="4754520"/>
            <a:ext cx="217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ger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400800" y="4754520"/>
            <a:ext cx="217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ster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hurdles-01.png"/>
          <p:cNvPicPr/>
          <p:nvPr/>
        </p:nvPicPr>
        <p:blipFill>
          <a:blip r:embed="rId1"/>
          <a:srcRect l="22148" t="5294" r="23800" b="6869"/>
          <a:stretch/>
        </p:blipFill>
        <p:spPr>
          <a:xfrm>
            <a:off x="6165720" y="1424160"/>
            <a:ext cx="2521080" cy="3071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hurdles-01.png"/>
          <p:cNvPicPr/>
          <p:nvPr/>
        </p:nvPicPr>
        <p:blipFill>
          <a:blip r:embed="rId2"/>
          <a:srcRect l="22146" t="5292" r="23806" b="6873"/>
          <a:stretch/>
        </p:blipFill>
        <p:spPr>
          <a:xfrm>
            <a:off x="3276720" y="1895400"/>
            <a:ext cx="2133360" cy="260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urdles-01.png"/>
          <p:cNvPicPr/>
          <p:nvPr/>
        </p:nvPicPr>
        <p:blipFill>
          <a:blip r:embed="rId3"/>
          <a:srcRect l="22154" t="5301" r="23798" b="6870"/>
          <a:stretch/>
        </p:blipFill>
        <p:spPr>
          <a:xfrm>
            <a:off x="609480" y="2360520"/>
            <a:ext cx="17528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53_4graphic-02.png"/>
          <p:cNvPicPr/>
          <p:nvPr/>
        </p:nvPicPr>
        <p:blipFill>
          <a:blip r:embed="rId1"/>
          <a:srcRect l="15756" t="10202" r="9622" b="15838"/>
          <a:stretch/>
        </p:blipFill>
        <p:spPr>
          <a:xfrm>
            <a:off x="5410080" y="2590920"/>
            <a:ext cx="2965680" cy="2939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53_graphic.png"/>
          <p:cNvPicPr/>
          <p:nvPr/>
        </p:nvPicPr>
        <p:blipFill>
          <a:blip r:embed="rId2"/>
          <a:stretch/>
        </p:blipFill>
        <p:spPr>
          <a:xfrm>
            <a:off x="838080" y="2590920"/>
            <a:ext cx="3090960" cy="310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you expect naysayers, confront the issues right up fro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18960" y="1542960"/>
            <a:ext cx="4176720" cy="376200"/>
          </a:xfrm>
          <a:prstGeom prst="rect">
            <a:avLst/>
          </a:prstGeom>
          <a:solidFill>
            <a:srgbClr val="1080b0"/>
          </a:solidFill>
          <a:ln w="19080">
            <a:solidFill>
              <a:srgbClr val="1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e clear intention is 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653000" y="1542960"/>
            <a:ext cx="4181400" cy="376200"/>
          </a:xfrm>
          <a:prstGeom prst="rect">
            <a:avLst/>
          </a:prstGeom>
          <a:solidFill>
            <a:srgbClr val="009fc9"/>
          </a:solidFill>
          <a:ln w="19080">
            <a:solidFill>
              <a:srgbClr val="009f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0" tIns="0" bIns="0" anchor="ctr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ut rather t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8960" y="2057400"/>
            <a:ext cx="4176720" cy="4191120"/>
          </a:xfrm>
          <a:prstGeom prst="rect">
            <a:avLst/>
          </a:prstGeom>
          <a:noFill/>
          <a:ln w="9360">
            <a:solidFill>
              <a:srgbClr val="1db4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343080" indent="-23040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3040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53000" y="2057400"/>
            <a:ext cx="4181400" cy="4191120"/>
          </a:xfrm>
          <a:prstGeom prst="rect">
            <a:avLst/>
          </a:prstGeom>
          <a:noFill/>
          <a:ln w="9360">
            <a:solidFill>
              <a:srgbClr val="1db4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marL="343080" indent="-16848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8480">
              <a:lnSpc>
                <a:spcPct val="95000"/>
              </a:lnSpc>
              <a:spcAft>
                <a:spcPts val="751"/>
              </a:spcAft>
              <a:buClr>
                <a:srgbClr val="009f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esenting options to your audience helps everyone come to the same deci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31640" y="685800"/>
          <a:ext cx="7696440" cy="533412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d1d1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d1d1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d1d1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59822"/>
                      </a:solidFill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9822"/>
                      </a:solidFill>
                    </a:lnL>
                    <a:lnR w="5760">
                      <a:solidFill>
                        <a:srgbClr val="659822"/>
                      </a:solidFill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9822"/>
                      </a:solidFill>
                    </a:lnL>
                    <a:lnR>
                      <a:noFill/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59822"/>
                      </a:solidFill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9822"/>
                      </a:solidFill>
                    </a:lnL>
                    <a:lnR w="5760">
                      <a:solidFill>
                        <a:srgbClr val="659822"/>
                      </a:solidFill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9822"/>
                      </a:solidFill>
                    </a:lnL>
                    <a:lnR>
                      <a:noFill/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59822"/>
                      </a:solidFill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9822"/>
                      </a:solidFill>
                    </a:lnL>
                    <a:lnR w="5760">
                      <a:solidFill>
                        <a:srgbClr val="659822"/>
                      </a:solidFill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rem ipsum dolor sit amet, consectetur adipiscing elit. Cras vulputate porta magna, sed scelerisque magna aliquet 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59822"/>
                      </a:solidFill>
                    </a:lnL>
                    <a:lnR>
                      <a:noFill/>
                    </a:lnR>
                    <a:lnT w="5760">
                      <a:solidFill>
                        <a:srgbClr val="659822"/>
                      </a:solidFill>
                    </a:lnT>
                    <a:lnB w="5760">
                      <a:solidFill>
                        <a:srgbClr val="65982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Picture 240" descr="YNM"/>
          <p:cNvPicPr/>
          <p:nvPr/>
        </p:nvPicPr>
        <p:blipFill>
          <a:blip r:embed="rId1"/>
          <a:srcRect l="0" t="0" r="79266" b="73195"/>
          <a:stretch/>
        </p:blipFill>
        <p:spPr>
          <a:xfrm>
            <a:off x="838080" y="220968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1" descr="YNM"/>
          <p:cNvPicPr/>
          <p:nvPr/>
        </p:nvPicPr>
        <p:blipFill>
          <a:blip r:embed="rId2"/>
          <a:srcRect l="0" t="28704" r="79266" b="40390"/>
          <a:stretch/>
        </p:blipFill>
        <p:spPr>
          <a:xfrm>
            <a:off x="838080" y="347976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2" descr="YNM"/>
          <p:cNvPicPr/>
          <p:nvPr/>
        </p:nvPicPr>
        <p:blipFill>
          <a:blip r:embed="rId3"/>
          <a:srcRect l="0" t="59620" r="79266" b="11686"/>
          <a:stretch/>
        </p:blipFill>
        <p:spPr>
          <a:xfrm>
            <a:off x="838080" y="4826160"/>
            <a:ext cx="12956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You can present a preferred, cautionary, and must avoid op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676520"/>
          <a:ext cx="8661600" cy="4606920"/>
        </p:xfrm>
        <a:graphic>
          <a:graphicData uri="http://schemas.openxmlformats.org/drawingml/2006/table">
            <a:tbl>
              <a:tblPr/>
              <a:tblGrid>
                <a:gridCol w="2356200"/>
                <a:gridCol w="1947600"/>
                <a:gridCol w="218880"/>
                <a:gridCol w="1945800"/>
                <a:gridCol w="218880"/>
                <a:gridCol w="19742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</a:tr>
              <a:tr h="13777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</a:tr>
              <a:tr h="1378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 w="13680">
                      <a:solidFill>
                        <a:srgbClr val="009fc9"/>
                      </a:solidFill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</a:tr>
              <a:tr h="1378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>
                      <a:noFill/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>
                      <a:noFill/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65080"/>
                          <a:tab algn="l" pos="1730520"/>
                          <a:tab algn="l" pos="2595600"/>
                          <a:tab algn="l" pos="3460680"/>
                          <a:tab algn="l" pos="4325760"/>
                          <a:tab algn="l" pos="5191200"/>
                          <a:tab algn="l" pos="6056280"/>
                          <a:tab algn="l" pos="6921360"/>
                          <a:tab algn="l" pos="7786800"/>
                          <a:tab algn="l" pos="8651880"/>
                          <a:tab algn="l" pos="9516960"/>
                          <a:tab algn="l" pos="10382400"/>
                        </a:tabLst>
                      </a:pPr>
                      <a:r>
                        <a:rPr b="1" lang="en-US" sz="1200" spc="-1" strike="noStrike">
                          <a:solidFill>
                            <a:srgbClr val="1080b0"/>
                          </a:solidFill>
                          <a:latin typeface="Arial"/>
                        </a:rPr>
                        <a:t>Lorem ipsum dolor sit amet, consectetur adipiscing elit. Cras vulputate porta magna, sed scelerisque magna aliquet s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fc9"/>
                      </a:solidFill>
                    </a:lnT>
                    <a:lnB>
                      <a:noFill/>
                    </a:lnB>
                    <a:solidFill>
                      <a:srgbClr val="009fc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8" name="Text Box 55"/>
          <p:cNvSpPr/>
          <p:nvPr/>
        </p:nvSpPr>
        <p:spPr>
          <a:xfrm>
            <a:off x="588240" y="31622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741600" y="4545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903240" y="5881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8" descr="plus_roadsign"/>
          <p:cNvPicPr/>
          <p:nvPr/>
        </p:nvPicPr>
        <p:blipFill>
          <a:blip r:embed="rId1"/>
          <a:stretch/>
        </p:blipFill>
        <p:spPr>
          <a:xfrm>
            <a:off x="901800" y="2224080"/>
            <a:ext cx="927000" cy="99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9" descr="minus"/>
          <p:cNvPicPr/>
          <p:nvPr/>
        </p:nvPicPr>
        <p:blipFill>
          <a:blip r:embed="rId2"/>
          <a:stretch/>
        </p:blipFill>
        <p:spPr>
          <a:xfrm>
            <a:off x="906480" y="498492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yeld"/>
          <p:cNvPicPr/>
          <p:nvPr/>
        </p:nvPicPr>
        <p:blipFill>
          <a:blip r:embed="rId3"/>
          <a:stretch/>
        </p:blipFill>
        <p:spPr>
          <a:xfrm>
            <a:off x="768240" y="3619440"/>
            <a:ext cx="1155960" cy="988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2"/>
          <p:cNvSpPr/>
          <p:nvPr/>
        </p:nvSpPr>
        <p:spPr>
          <a:xfrm>
            <a:off x="2643120" y="107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ertain items can only be evaluated in a range as represented in the bottom four rows of this tab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333440"/>
          <a:ext cx="8076960" cy="5067360"/>
        </p:xfrm>
        <a:graphic>
          <a:graphicData uri="http://schemas.openxmlformats.org/drawingml/2006/table">
            <a:tbl>
              <a:tblPr/>
              <a:tblGrid>
                <a:gridCol w="2065320"/>
                <a:gridCol w="3006720"/>
                <a:gridCol w="3004920"/>
              </a:tblGrid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ceholder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a placeholder text. This text can be replaced with your own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demonstrates how your own text will look when you replace the placeholder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ceholder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a placeholder text. This text can be replaced with your own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demonstrates how your own text will look when you replace the placeholder tex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ceholder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ceholder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ceholder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ceholder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0c1d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17" name="Group 119"/>
          <p:cNvGrpSpPr/>
          <p:nvPr/>
        </p:nvGrpSpPr>
        <p:grpSpPr>
          <a:xfrm>
            <a:off x="2540160" y="2978280"/>
            <a:ext cx="6138720" cy="3390840"/>
            <a:chOff x="2540160" y="2978280"/>
            <a:chExt cx="6138720" cy="3390840"/>
          </a:xfrm>
        </p:grpSpPr>
        <p:pic>
          <p:nvPicPr>
            <p:cNvPr id="118" name="Picture 115" descr="Untitled-1"/>
            <p:cNvPicPr/>
            <p:nvPr/>
          </p:nvPicPr>
          <p:blipFill>
            <a:blip r:embed="rId1"/>
            <a:stretch/>
          </p:blipFill>
          <p:spPr>
            <a:xfrm>
              <a:off x="2540160" y="2978280"/>
              <a:ext cx="61387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16" descr="Untitled-1"/>
            <p:cNvPicPr/>
            <p:nvPr/>
          </p:nvPicPr>
          <p:blipFill>
            <a:blip r:embed="rId2"/>
            <a:stretch/>
          </p:blipFill>
          <p:spPr>
            <a:xfrm>
              <a:off x="2540160" y="3822840"/>
              <a:ext cx="61387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17" descr="Untitled-1"/>
            <p:cNvPicPr/>
            <p:nvPr/>
          </p:nvPicPr>
          <p:blipFill>
            <a:blip r:embed="rId3"/>
            <a:stretch/>
          </p:blipFill>
          <p:spPr>
            <a:xfrm>
              <a:off x="2540160" y="4648320"/>
              <a:ext cx="613872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18" descr="Untitled-1"/>
            <p:cNvPicPr/>
            <p:nvPr/>
          </p:nvPicPr>
          <p:blipFill>
            <a:blip r:embed="rId4"/>
            <a:stretch/>
          </p:blipFill>
          <p:spPr>
            <a:xfrm>
              <a:off x="2540160" y="5492880"/>
              <a:ext cx="61387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Rectangle 141"/>
          <p:cNvSpPr/>
          <p:nvPr/>
        </p:nvSpPr>
        <p:spPr>
          <a:xfrm>
            <a:off x="4740120" y="3238560"/>
            <a:ext cx="3108600" cy="301680"/>
          </a:xfrm>
          <a:prstGeom prst="rect">
            <a:avLst/>
          </a:prstGeom>
          <a:solidFill>
            <a:srgbClr val="009fc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3"/>
          <p:cNvSpPr/>
          <p:nvPr/>
        </p:nvSpPr>
        <p:spPr>
          <a:xfrm>
            <a:off x="4051440" y="4915080"/>
            <a:ext cx="368280" cy="301320"/>
          </a:xfrm>
          <a:prstGeom prst="rect">
            <a:avLst/>
          </a:prstGeom>
          <a:solidFill>
            <a:srgbClr val="009fc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4"/>
          <p:cNvSpPr/>
          <p:nvPr/>
        </p:nvSpPr>
        <p:spPr>
          <a:xfrm>
            <a:off x="3441600" y="5753160"/>
            <a:ext cx="368280" cy="301680"/>
          </a:xfrm>
          <a:prstGeom prst="rect">
            <a:avLst/>
          </a:prstGeom>
          <a:solidFill>
            <a:srgbClr val="009fc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1"/>
          <p:cNvSpPr/>
          <p:nvPr/>
        </p:nvSpPr>
        <p:spPr>
          <a:xfrm>
            <a:off x="3048120" y="4076640"/>
            <a:ext cx="3017880" cy="301680"/>
          </a:xfrm>
          <a:prstGeom prst="rect">
            <a:avLst/>
          </a:prstGeom>
          <a:solidFill>
            <a:srgbClr val="009fc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usion of many street signs could represent your current state and a fast highway points to the fu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260280" y="4495680"/>
            <a:ext cx="3390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322960" y="4495680"/>
            <a:ext cx="3390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ture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sosceles Triangle 1"/>
          <p:cNvSpPr/>
          <p:nvPr/>
        </p:nvSpPr>
        <p:spPr>
          <a:xfrm rot="5400000">
            <a:off x="3676320" y="4933800"/>
            <a:ext cx="1714680" cy="533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080b0">
                  <a:alpha val="50196"/>
                </a:srgbClr>
              </a:gs>
              <a:gs pos="100000">
                <a:srgbClr val="1080b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Signs-02.png"/>
          <p:cNvPicPr/>
          <p:nvPr/>
        </p:nvPicPr>
        <p:blipFill>
          <a:blip r:embed="rId1"/>
          <a:srcRect l="14393" t="1267" r="14393" b="6311"/>
          <a:stretch/>
        </p:blipFill>
        <p:spPr>
          <a:xfrm>
            <a:off x="932040" y="1405080"/>
            <a:ext cx="2387520" cy="309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igns-01.png"/>
          <p:cNvPicPr/>
          <p:nvPr/>
        </p:nvPicPr>
        <p:blipFill>
          <a:blip r:embed="rId2"/>
          <a:srcRect l="11669" t="31669" r="6669" b="28339"/>
          <a:stretch/>
        </p:blipFill>
        <p:spPr>
          <a:xfrm>
            <a:off x="4800600" y="2286000"/>
            <a:ext cx="3733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mmediately you will sway your audience with visuals that reinforce the advantages of your id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1066680" y="16430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93bc"/>
                </a:solidFill>
                <a:latin typeface="Arial"/>
              </a:rPr>
              <a:t>Advan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6095880" y="16430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93bc"/>
                </a:solidFill>
                <a:latin typeface="Arial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9" descr="balancing2"/>
          <p:cNvPicPr/>
          <p:nvPr/>
        </p:nvPicPr>
        <p:blipFill>
          <a:blip r:embed="rId1"/>
          <a:stretch/>
        </p:blipFill>
        <p:spPr>
          <a:xfrm>
            <a:off x="1600200" y="4191120"/>
            <a:ext cx="6399360" cy="2233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685800" y="2286000"/>
            <a:ext cx="35053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text can be replaced wi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5334120" y="2133720"/>
            <a:ext cx="350496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text can be replaced with your   own tex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Aft>
                <a:spcPts val="56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</a:t>
            </a:r>
            <a:r>
              <a:rPr b="0" lang="ja-JP" sz="24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 under the hood? A shiny V8 or hamsters on a whee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838080" y="4952880"/>
            <a:ext cx="3124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4952880" y="4952880"/>
            <a:ext cx="3124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v8.png"/>
          <p:cNvPicPr/>
          <p:nvPr/>
        </p:nvPicPr>
        <p:blipFill>
          <a:blip r:embed="rId1"/>
          <a:srcRect l="0" t="0" r="52820" b="0"/>
          <a:stretch/>
        </p:blipFill>
        <p:spPr>
          <a:xfrm>
            <a:off x="882720" y="1851120"/>
            <a:ext cx="2927160" cy="2824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v8.png"/>
          <p:cNvPicPr/>
          <p:nvPr/>
        </p:nvPicPr>
        <p:blipFill>
          <a:blip r:embed="rId2"/>
          <a:srcRect l="63247" t="0" r="-430" b="0"/>
          <a:stretch/>
        </p:blipFill>
        <p:spPr>
          <a:xfrm>
            <a:off x="5359320" y="1851120"/>
            <a:ext cx="23068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3:31Z</dcterms:created>
  <dc:creator>Josh Farkas</dc:creator>
  <dc:description/>
  <dc:language>en-US</dc:language>
  <cp:lastModifiedBy>Ken Revenaugh</cp:lastModifiedBy>
  <dcterms:modified xsi:type="dcterms:W3CDTF">2011-09-17T09:28:46Z</dcterms:modified>
  <cp:revision>76</cp:revision>
  <dc:subject/>
  <dc:title>PowerPoint Presentation</dc:title>
</cp:coreProperties>
</file>